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1ACE-63DA-477F-9649-1F4780F5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726-8D66-4C73-8F3B-127E5B25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50B-FB8A-490C-B3C9-1CEBF252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787-3B1C-4A7F-9BE1-82BC0F44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F5D6-8BE4-4D22-BA6F-5FFFFE33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B21-8906-49DA-875B-DE0974CE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D90-0D81-4ADC-9504-EF690E52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7C3-5FA6-4726-8EF7-332FBA08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01F7-37FA-4A92-ADAC-EEB1F7FE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046-7F02-4B49-AD06-16DF398A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922E-6452-47F0-8088-7E9B9511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CA6-F13E-4383-BE79-B50F0E09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AA9A-D837-4397-86C8-FD4BFEB1E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file:///Presentazione%20della%20Qualit&#224;%20EASA.pps" TargetMode="External"/><Relationship Id="rId4" Type="http://schemas.openxmlformats.org/officeDocument/2006/relationships/hyperlink" Target="file:///Presentazione%20della%20Qualit&#224;%20EASA.pps" TargetMode="External"/><Relationship Id="rId5" Type="http://schemas.openxmlformats.org/officeDocument/2006/relationships/hyperlink" Target="file:///EASA.Standardisation%20Road-show.3_FBA.ppt" TargetMode="External"/><Relationship Id="rId6" Type="http://schemas.openxmlformats.org/officeDocument/2006/relationships/hyperlink" Target="file:///EASA.Standardisation%20Road-show.3_FBA.ppt" TargetMode="External"/><Relationship Id="rId7" Type="http://schemas.openxmlformats.org/officeDocument/2006/relationships/hyperlink" Target="file:///Presentazione%20della%20Qualit&#224;%20EASA.pps" TargetMode="External"/><Relationship Id="rId8" Type="http://schemas.openxmlformats.org/officeDocument/2006/relationships/hyperlink" Target="file:///Presentazione%20della%20Qualit&#224;%20EASA.pps" TargetMode="External"/><Relationship Id="rId9" Type="http://schemas.openxmlformats.org/officeDocument/2006/relationships/hyperlink" Target="file:///Presentazione%20della%20Qualit&#224;%20EASA.pps" TargetMode="External"/><Relationship Id="rId10" Type="http://schemas.openxmlformats.org/officeDocument/2006/relationships/hyperlink" Target="file:///Presentazione%20della%20Qualit&#224;%20EASA.pps" TargetMode="External"/><Relationship Id="rId11" Type="http://schemas.openxmlformats.org/officeDocument/2006/relationships/hyperlink" Target="file:///EASA.Standardisation%20Road-show.3_FBA.ppt" TargetMode="External"/><Relationship Id="rId12" Type="http://schemas.openxmlformats.org/officeDocument/2006/relationships/hyperlink" Target="file:///EASA.Standardisation%20Road-show.3_FBA.ppt" TargetMode="External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file:///Presentazione%20della%20Qualit&#224;%20EASA.pps" TargetMode="External"/><Relationship Id="rId4" Type="http://schemas.openxmlformats.org/officeDocument/2006/relationships/hyperlink" Target="file:///Presentazione%20della%20Qualit&#224;%20EASA.pps" TargetMode="External"/><Relationship Id="rId5" Type="http://schemas.openxmlformats.org/officeDocument/2006/relationships/hyperlink" Target="file:///Presentazione%20della%20Qualit&#224;%20EASA.pps" TargetMode="External"/><Relationship Id="rId6" Type="http://schemas.openxmlformats.org/officeDocument/2006/relationships/hyperlink" Target="file:///EASA.Standardisation%20Road-show.3_FBA.ppt" TargetMode="External"/><Relationship Id="rId7" Type="http://schemas.openxmlformats.org/officeDocument/2006/relationships/hyperlink" Target="file:///Presentazione%20della%20Qualit&#224;%20EASA.pps" TargetMode="External"/><Relationship Id="rId8" Type="http://schemas.openxmlformats.org/officeDocument/2006/relationships/hyperlink" Target="file:///Presentazione%20della%20Qualit&#224;%20EASA.pps" TargetMode="External"/><Relationship Id="rId9" Type="http://schemas.openxmlformats.org/officeDocument/2006/relationships/hyperlink" Target="file:///EASA.Standardisation%20Road-show.2_RLE.ppt" TargetMode="External"/><Relationship Id="rId10" Type="http://schemas.openxmlformats.org/officeDocument/2006/relationships/hyperlink" Target="file:///Presentazione%20della%20Qualit&#224;%20EASA.pps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44280" y="252360"/>
            <a:ext cx="4800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ISATION INSPEC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32280" y="701640"/>
            <a:ext cx="792000" cy="216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24360" y="1376280"/>
            <a:ext cx="792000" cy="360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nd Notice 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32280" y="4032360"/>
            <a:ext cx="792000" cy="420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41680" y="4632480"/>
            <a:ext cx="841680" cy="42228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-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s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62000" y="2322360"/>
            <a:ext cx="79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ine T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8400" y="836640"/>
            <a:ext cx="871200" cy="360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2" idx="2"/>
            <a:endCxn id="43" idx="0"/>
          </p:cNvCxnSpPr>
          <p:nvPr/>
        </p:nvCxnSpPr>
        <p:spPr>
          <a:xfrm flipH="1">
            <a:off x="3420360" y="917640"/>
            <a:ext cx="8280" cy="45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70520" y="1444680"/>
            <a:ext cx="100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 10th we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70520" y="1962000"/>
            <a:ext cx="100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 6th we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73640" y="4032360"/>
            <a:ext cx="90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  0 wee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24360" y="1916280"/>
            <a:ext cx="792000" cy="360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32280" y="3460680"/>
            <a:ext cx="792000" cy="43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gani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3" idx="2"/>
            <a:endCxn id="52" idx="0"/>
          </p:cNvCxnSpPr>
          <p:nvPr/>
        </p:nvCxnSpPr>
        <p:spPr>
          <a:xfrm>
            <a:off x="3420360" y="1736640"/>
            <a:ext cx="36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2" idx="1"/>
            <a:endCxn id="46" idx="0"/>
          </p:cNvCxnSpPr>
          <p:nvPr/>
        </p:nvCxnSpPr>
        <p:spPr>
          <a:xfrm flipV="1" rot="10800000">
            <a:off x="2357640" y="2096280"/>
            <a:ext cx="666720" cy="22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283360" y="2894040"/>
            <a:ext cx="90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- 2nd we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3" idx="2"/>
            <a:endCxn id="44" idx="0"/>
          </p:cNvCxnSpPr>
          <p:nvPr/>
        </p:nvCxnSpPr>
        <p:spPr>
          <a:xfrm rot="16200000">
            <a:off x="3360960" y="3964680"/>
            <a:ext cx="13536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142920" y="3357720"/>
            <a:ext cx="6570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6160" y="1241280"/>
            <a:ext cx="6570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182160" y="592920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isiting Ph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-150840" y="2167200"/>
            <a:ext cx="145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paratory Ph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13560" y="653760"/>
            <a:ext cx="551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ong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76640" y="2311560"/>
            <a:ext cx="79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ine Vis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2" idx="3"/>
            <a:endCxn id="63" idx="0"/>
          </p:cNvCxnSpPr>
          <p:nvPr/>
        </p:nvCxnSpPr>
        <p:spPr>
          <a:xfrm>
            <a:off x="3816360" y="2096640"/>
            <a:ext cx="656640" cy="21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5273640" y="8037360"/>
            <a:ext cx="90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 0 wee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520" y="603360"/>
            <a:ext cx="6570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75000" y="5199120"/>
            <a:ext cx="1175040" cy="7221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medi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zard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19360" y="6462720"/>
            <a:ext cx="1263600" cy="7221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y immedia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medial a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quested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08160" y="4632480"/>
            <a:ext cx="841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-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08160" y="6029280"/>
            <a:ext cx="8416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-si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38640" y="6102360"/>
            <a:ext cx="2700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14720" y="5381640"/>
            <a:ext cx="2700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00480" y="8712360"/>
            <a:ext cx="241200" cy="2394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78400" y="8742240"/>
            <a:ext cx="72072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next p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/>
          <p:nvPr/>
        </p:nvCxnSpPr>
        <p:spPr>
          <a:xfrm flipH="1">
            <a:off x="3420720" y="8397720"/>
            <a:ext cx="2160" cy="31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081160" y="7272360"/>
            <a:ext cx="2700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67200" y="6686640"/>
            <a:ext cx="26964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76640" y="2816280"/>
            <a:ext cx="792360" cy="45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ify visits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dertak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f 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63" idx="2"/>
            <a:endCxn id="78" idx="0"/>
          </p:cNvCxnSpPr>
          <p:nvPr/>
        </p:nvCxnSpPr>
        <p:spPr>
          <a:xfrm rot="16200000">
            <a:off x="4400640" y="2743920"/>
            <a:ext cx="144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8" idx="2"/>
            <a:endCxn id="53" idx="3"/>
          </p:cNvCxnSpPr>
          <p:nvPr/>
        </p:nvCxnSpPr>
        <p:spPr>
          <a:xfrm rot="5400000">
            <a:off x="3942360" y="3148920"/>
            <a:ext cx="412200" cy="648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008160" y="5349960"/>
            <a:ext cx="841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quest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medi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medial a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44" idx="2"/>
            <a:endCxn id="69" idx="0"/>
          </p:cNvCxnSpPr>
          <p:nvPr/>
        </p:nvCxnSpPr>
        <p:spPr>
          <a:xfrm flipH="1" rot="16200000">
            <a:off x="3339000" y="4542120"/>
            <a:ext cx="180000" cy="1080"/>
          </a:xfrm>
          <a:prstGeom prst="bentConnector3">
            <a:avLst>
              <a:gd name="adj1" fmla="val 4989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46" idx="2"/>
            <a:endCxn id="53" idx="1"/>
          </p:cNvCxnSpPr>
          <p:nvPr/>
        </p:nvCxnSpPr>
        <p:spPr>
          <a:xfrm flipH="1" rot="16200000">
            <a:off x="2197080" y="2843280"/>
            <a:ext cx="996480" cy="674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9" idx="3"/>
            <a:endCxn id="45" idx="1"/>
          </p:cNvCxnSpPr>
          <p:nvPr/>
        </p:nvCxnSpPr>
        <p:spPr>
          <a:xfrm>
            <a:off x="3849840" y="4843440"/>
            <a:ext cx="592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2"/>
            <a:endCxn id="67" idx="0"/>
          </p:cNvCxnSpPr>
          <p:nvPr/>
        </p:nvCxnSpPr>
        <p:spPr>
          <a:xfrm rot="16200000">
            <a:off x="4790520" y="5126760"/>
            <a:ext cx="144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67" idx="1"/>
            <a:endCxn id="81" idx="3"/>
          </p:cNvCxnSpPr>
          <p:nvPr/>
        </p:nvCxnSpPr>
        <p:spPr>
          <a:xfrm flipV="1" rot="10800000">
            <a:off x="3849480" y="5560200"/>
            <a:ext cx="425520" cy="1080"/>
          </a:xfrm>
          <a:prstGeom prst="bentConnector3">
            <a:avLst>
              <a:gd name="adj1" fmla="val 504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1" idx="2"/>
            <a:endCxn id="70" idx="0"/>
          </p:cNvCxnSpPr>
          <p:nvPr/>
        </p:nvCxnSpPr>
        <p:spPr>
          <a:xfrm rot="16200000">
            <a:off x="3300480" y="5900760"/>
            <a:ext cx="2574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7" idx="2"/>
            <a:endCxn id="70" idx="3"/>
          </p:cNvCxnSpPr>
          <p:nvPr/>
        </p:nvCxnSpPr>
        <p:spPr>
          <a:xfrm rot="5400000">
            <a:off x="4193640" y="5577480"/>
            <a:ext cx="325080" cy="1013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3681360" y="6364440"/>
            <a:ext cx="617760" cy="32220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08160" y="7964640"/>
            <a:ext cx="84168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rap-u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84240" y="7559640"/>
            <a:ext cx="9320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vi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th evid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clos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70" idx="1"/>
            <a:endCxn id="68" idx="0"/>
          </p:cNvCxnSpPr>
          <p:nvPr/>
        </p:nvCxnSpPr>
        <p:spPr>
          <a:xfrm flipV="1" rot="10800000">
            <a:off x="2350800" y="6246000"/>
            <a:ext cx="657360" cy="217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68" idx="2"/>
            <a:endCxn id="91" idx="0"/>
          </p:cNvCxnSpPr>
          <p:nvPr/>
        </p:nvCxnSpPr>
        <p:spPr>
          <a:xfrm rot="5400000">
            <a:off x="2162880" y="7371720"/>
            <a:ext cx="375120" cy="1440"/>
          </a:xfrm>
          <a:prstGeom prst="bentConnector3">
            <a:avLst>
              <a:gd name="adj1" fmla="val 501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68" idx="3"/>
            <a:endCxn id="90" idx="0"/>
          </p:cNvCxnSpPr>
          <p:nvPr/>
        </p:nvCxnSpPr>
        <p:spPr>
          <a:xfrm>
            <a:off x="2982960" y="6823800"/>
            <a:ext cx="446400" cy="1141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1" idx="2"/>
            <a:endCxn id="90" idx="1"/>
          </p:cNvCxnSpPr>
          <p:nvPr/>
        </p:nvCxnSpPr>
        <p:spPr>
          <a:xfrm flipH="1" rot="16200000">
            <a:off x="2585160" y="7758000"/>
            <a:ext cx="188280" cy="65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142920" y="603360"/>
            <a:ext cx="6570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8760" y="8532720"/>
            <a:ext cx="6570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0"/>
          <a:ext cx="304920" cy="5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0492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0" y="0"/>
            <a:ext cx="9367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ASA-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7.07.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3"/>
          </p:cNvPr>
          <p:cNvSpPr/>
          <p:nvPr/>
        </p:nvSpPr>
        <p:spPr>
          <a:xfrm>
            <a:off x="5972040" y="1398600"/>
            <a:ext cx="270000" cy="297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7000"/>
              <a:gd name="textAreaBottom" fmla="*/ 279720 h 297000"/>
            </a:gdLst>
            <a:ahLst/>
            <a:rect l="textAreaLeft" t="textAreaTop" r="textAreaRight" b="textAreaBottom"/>
            <a:pathLst>
              <a:path w="21600" h="23757">
                <a:moveTo>
                  <a:pt x="0" y="0"/>
                </a:moveTo>
                <a:lnTo>
                  <a:pt x="21600" y="0"/>
                </a:lnTo>
                <a:lnTo>
                  <a:pt x="21600" y="23757"/>
                </a:lnTo>
                <a:lnTo>
                  <a:pt x="0" y="23757"/>
                </a:lnTo>
                <a:close/>
              </a:path>
              <a:path fill="lightenLess" w="21600" h="237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7">
                <a:moveTo>
                  <a:pt x="21600" y="0"/>
                </a:moveTo>
                <a:lnTo>
                  <a:pt x="21600" y="23757"/>
                </a:lnTo>
                <a:lnTo>
                  <a:pt x="20200" y="22357"/>
                </a:lnTo>
                <a:lnTo>
                  <a:pt x="20200" y="1400"/>
                </a:lnTo>
                <a:close/>
              </a:path>
              <a:path fill="darkenLess" w="21600" h="23757">
                <a:moveTo>
                  <a:pt x="21600" y="23757"/>
                </a:moveTo>
                <a:lnTo>
                  <a:pt x="0" y="23757"/>
                </a:lnTo>
                <a:lnTo>
                  <a:pt x="1400" y="22357"/>
                </a:lnTo>
                <a:lnTo>
                  <a:pt x="20200" y="22357"/>
                </a:lnTo>
                <a:close/>
              </a:path>
              <a:path fill="lighten" w="21600" h="23757">
                <a:moveTo>
                  <a:pt x="0" y="237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7"/>
                </a:lnTo>
                <a:close/>
              </a:path>
              <a:path fill="darken" w="21600" h="23757">
                <a:moveTo>
                  <a:pt x="3794" y="4872"/>
                </a:moveTo>
                <a:lnTo>
                  <a:pt x="17806" y="11879"/>
                </a:lnTo>
                <a:lnTo>
                  <a:pt x="3794" y="188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75440" y="1398600"/>
            <a:ext cx="7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8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4"/>
          </p:cNvPr>
          <p:cNvSpPr/>
          <p:nvPr/>
        </p:nvSpPr>
        <p:spPr>
          <a:xfrm>
            <a:off x="5972040" y="1893960"/>
            <a:ext cx="270000" cy="29664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6640"/>
              <a:gd name="textAreaBottom" fmla="*/ 279360 h 296640"/>
            </a:gdLst>
            <a:ahLst/>
            <a:rect l="textAreaLeft" t="textAreaTop" r="textAreaRight" b="textAreaBottom"/>
            <a:pathLst>
              <a:path w="21600" h="23728">
                <a:moveTo>
                  <a:pt x="0" y="0"/>
                </a:moveTo>
                <a:lnTo>
                  <a:pt x="21600" y="0"/>
                </a:lnTo>
                <a:lnTo>
                  <a:pt x="21600" y="23728"/>
                </a:lnTo>
                <a:lnTo>
                  <a:pt x="0" y="23728"/>
                </a:lnTo>
                <a:close/>
              </a:path>
              <a:path fill="lightenLess" w="21600" h="237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28">
                <a:moveTo>
                  <a:pt x="21600" y="0"/>
                </a:moveTo>
                <a:lnTo>
                  <a:pt x="21600" y="23728"/>
                </a:lnTo>
                <a:lnTo>
                  <a:pt x="20200" y="22328"/>
                </a:lnTo>
                <a:lnTo>
                  <a:pt x="20200" y="1400"/>
                </a:lnTo>
                <a:close/>
              </a:path>
              <a:path fill="darkenLess" w="21600" h="23728">
                <a:moveTo>
                  <a:pt x="21600" y="23728"/>
                </a:moveTo>
                <a:lnTo>
                  <a:pt x="0" y="23728"/>
                </a:lnTo>
                <a:lnTo>
                  <a:pt x="1400" y="22328"/>
                </a:lnTo>
                <a:lnTo>
                  <a:pt x="20200" y="22328"/>
                </a:lnTo>
                <a:close/>
              </a:path>
              <a:path fill="lighten" w="21600" h="23728">
                <a:moveTo>
                  <a:pt x="0" y="237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28"/>
                </a:lnTo>
                <a:close/>
              </a:path>
              <a:path fill="darken" w="21600" h="23728">
                <a:moveTo>
                  <a:pt x="3794" y="4858"/>
                </a:moveTo>
                <a:lnTo>
                  <a:pt x="17806" y="11864"/>
                </a:lnTo>
                <a:lnTo>
                  <a:pt x="3794" y="188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75440" y="1893960"/>
            <a:ext cx="7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8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5"/>
          </p:cNvPr>
          <p:cNvSpPr/>
          <p:nvPr/>
        </p:nvSpPr>
        <p:spPr>
          <a:xfrm>
            <a:off x="1101600" y="2374920"/>
            <a:ext cx="270000" cy="297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7000"/>
              <a:gd name="textAreaBottom" fmla="*/ 279720 h 297000"/>
            </a:gdLst>
            <a:ahLst/>
            <a:rect l="textAreaLeft" t="textAreaTop" r="textAreaRight" b="textAreaBottom"/>
            <a:pathLst>
              <a:path w="21600" h="23757">
                <a:moveTo>
                  <a:pt x="0" y="0"/>
                </a:moveTo>
                <a:lnTo>
                  <a:pt x="21600" y="0"/>
                </a:lnTo>
                <a:lnTo>
                  <a:pt x="21600" y="23757"/>
                </a:lnTo>
                <a:lnTo>
                  <a:pt x="0" y="23757"/>
                </a:lnTo>
                <a:close/>
              </a:path>
              <a:path fill="lightenLess" w="21600" h="237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7">
                <a:moveTo>
                  <a:pt x="21600" y="0"/>
                </a:moveTo>
                <a:lnTo>
                  <a:pt x="21600" y="23757"/>
                </a:lnTo>
                <a:lnTo>
                  <a:pt x="20200" y="22357"/>
                </a:lnTo>
                <a:lnTo>
                  <a:pt x="20200" y="1400"/>
                </a:lnTo>
                <a:close/>
              </a:path>
              <a:path fill="darkenLess" w="21600" h="23757">
                <a:moveTo>
                  <a:pt x="21600" y="23757"/>
                </a:moveTo>
                <a:lnTo>
                  <a:pt x="0" y="23757"/>
                </a:lnTo>
                <a:lnTo>
                  <a:pt x="1400" y="22357"/>
                </a:lnTo>
                <a:lnTo>
                  <a:pt x="20200" y="22357"/>
                </a:lnTo>
                <a:close/>
              </a:path>
              <a:path fill="lighten" w="21600" h="23757">
                <a:moveTo>
                  <a:pt x="0" y="237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7"/>
                </a:lnTo>
                <a:close/>
              </a:path>
              <a:path fill="darken" w="21600" h="23757">
                <a:moveTo>
                  <a:pt x="3794" y="4872"/>
                </a:moveTo>
                <a:lnTo>
                  <a:pt x="17806" y="11879"/>
                </a:lnTo>
                <a:lnTo>
                  <a:pt x="3794" y="188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6"/>
          </p:cNvPr>
          <p:cNvSpPr/>
          <p:nvPr/>
        </p:nvSpPr>
        <p:spPr>
          <a:xfrm>
            <a:off x="1305000" y="2374920"/>
            <a:ext cx="7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7"/>
          </p:cNvPr>
          <p:cNvSpPr/>
          <p:nvPr/>
        </p:nvSpPr>
        <p:spPr>
          <a:xfrm>
            <a:off x="5773680" y="3541680"/>
            <a:ext cx="270000" cy="297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7000"/>
              <a:gd name="textAreaBottom" fmla="*/ 279720 h 297000"/>
            </a:gdLst>
            <a:ahLst/>
            <a:rect l="textAreaLeft" t="textAreaTop" r="textAreaRight" b="textAreaBottom"/>
            <a:pathLst>
              <a:path w="21600" h="23757">
                <a:moveTo>
                  <a:pt x="0" y="0"/>
                </a:moveTo>
                <a:lnTo>
                  <a:pt x="21600" y="0"/>
                </a:lnTo>
                <a:lnTo>
                  <a:pt x="21600" y="23757"/>
                </a:lnTo>
                <a:lnTo>
                  <a:pt x="0" y="23757"/>
                </a:lnTo>
                <a:close/>
              </a:path>
              <a:path fill="lightenLess" w="21600" h="237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7">
                <a:moveTo>
                  <a:pt x="21600" y="0"/>
                </a:moveTo>
                <a:lnTo>
                  <a:pt x="21600" y="23757"/>
                </a:lnTo>
                <a:lnTo>
                  <a:pt x="20200" y="22357"/>
                </a:lnTo>
                <a:lnTo>
                  <a:pt x="20200" y="1400"/>
                </a:lnTo>
                <a:close/>
              </a:path>
              <a:path fill="darkenLess" w="21600" h="23757">
                <a:moveTo>
                  <a:pt x="21600" y="23757"/>
                </a:moveTo>
                <a:lnTo>
                  <a:pt x="0" y="23757"/>
                </a:lnTo>
                <a:lnTo>
                  <a:pt x="1400" y="22357"/>
                </a:lnTo>
                <a:lnTo>
                  <a:pt x="20200" y="22357"/>
                </a:lnTo>
                <a:close/>
              </a:path>
              <a:path fill="lighten" w="21600" h="23757">
                <a:moveTo>
                  <a:pt x="0" y="237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7"/>
                </a:lnTo>
                <a:close/>
              </a:path>
              <a:path fill="darken" w="21600" h="23757">
                <a:moveTo>
                  <a:pt x="3794" y="4872"/>
                </a:moveTo>
                <a:lnTo>
                  <a:pt x="17806" y="11879"/>
                </a:lnTo>
                <a:lnTo>
                  <a:pt x="3794" y="188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77080" y="3541680"/>
            <a:ext cx="7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9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8"/>
          </p:cNvPr>
          <p:cNvSpPr/>
          <p:nvPr/>
        </p:nvSpPr>
        <p:spPr>
          <a:xfrm>
            <a:off x="5773680" y="4705200"/>
            <a:ext cx="270000" cy="297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7000"/>
              <a:gd name="textAreaBottom" fmla="*/ 279720 h 297000"/>
            </a:gdLst>
            <a:ahLst/>
            <a:rect l="textAreaLeft" t="textAreaTop" r="textAreaRight" b="textAreaBottom"/>
            <a:pathLst>
              <a:path w="21600" h="23757">
                <a:moveTo>
                  <a:pt x="0" y="0"/>
                </a:moveTo>
                <a:lnTo>
                  <a:pt x="21600" y="0"/>
                </a:lnTo>
                <a:lnTo>
                  <a:pt x="21600" y="23757"/>
                </a:lnTo>
                <a:lnTo>
                  <a:pt x="0" y="23757"/>
                </a:lnTo>
                <a:close/>
              </a:path>
              <a:path fill="lightenLess" w="21600" h="237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7">
                <a:moveTo>
                  <a:pt x="21600" y="0"/>
                </a:moveTo>
                <a:lnTo>
                  <a:pt x="21600" y="23757"/>
                </a:lnTo>
                <a:lnTo>
                  <a:pt x="20200" y="22357"/>
                </a:lnTo>
                <a:lnTo>
                  <a:pt x="20200" y="1400"/>
                </a:lnTo>
                <a:close/>
              </a:path>
              <a:path fill="darkenLess" w="21600" h="23757">
                <a:moveTo>
                  <a:pt x="21600" y="23757"/>
                </a:moveTo>
                <a:lnTo>
                  <a:pt x="0" y="23757"/>
                </a:lnTo>
                <a:lnTo>
                  <a:pt x="1400" y="22357"/>
                </a:lnTo>
                <a:lnTo>
                  <a:pt x="20200" y="22357"/>
                </a:lnTo>
                <a:close/>
              </a:path>
              <a:path fill="lighten" w="21600" h="23757">
                <a:moveTo>
                  <a:pt x="0" y="237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7"/>
                </a:lnTo>
                <a:close/>
              </a:path>
              <a:path fill="darken" w="21600" h="23757">
                <a:moveTo>
                  <a:pt x="3794" y="4872"/>
                </a:moveTo>
                <a:lnTo>
                  <a:pt x="17806" y="11879"/>
                </a:lnTo>
                <a:lnTo>
                  <a:pt x="3794" y="188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77080" y="4705200"/>
            <a:ext cx="7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9(b-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9"/>
          </p:cNvPr>
          <p:cNvSpPr/>
          <p:nvPr/>
        </p:nvSpPr>
        <p:spPr>
          <a:xfrm>
            <a:off x="5773680" y="6364440"/>
            <a:ext cx="270000" cy="29664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6640"/>
              <a:gd name="textAreaBottom" fmla="*/ 279360 h 296640"/>
            </a:gdLst>
            <a:ahLst/>
            <a:rect l="textAreaLeft" t="textAreaTop" r="textAreaRight" b="textAreaBottom"/>
            <a:pathLst>
              <a:path w="21600" h="23728">
                <a:moveTo>
                  <a:pt x="0" y="0"/>
                </a:moveTo>
                <a:lnTo>
                  <a:pt x="21600" y="0"/>
                </a:lnTo>
                <a:lnTo>
                  <a:pt x="21600" y="23728"/>
                </a:lnTo>
                <a:lnTo>
                  <a:pt x="0" y="23728"/>
                </a:lnTo>
                <a:close/>
              </a:path>
              <a:path fill="lightenLess" w="21600" h="237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28">
                <a:moveTo>
                  <a:pt x="21600" y="0"/>
                </a:moveTo>
                <a:lnTo>
                  <a:pt x="21600" y="23728"/>
                </a:lnTo>
                <a:lnTo>
                  <a:pt x="20200" y="22328"/>
                </a:lnTo>
                <a:lnTo>
                  <a:pt x="20200" y="1400"/>
                </a:lnTo>
                <a:close/>
              </a:path>
              <a:path fill="darkenLess" w="21600" h="23728">
                <a:moveTo>
                  <a:pt x="21600" y="23728"/>
                </a:moveTo>
                <a:lnTo>
                  <a:pt x="0" y="23728"/>
                </a:lnTo>
                <a:lnTo>
                  <a:pt x="1400" y="22328"/>
                </a:lnTo>
                <a:lnTo>
                  <a:pt x="20200" y="22328"/>
                </a:lnTo>
                <a:close/>
              </a:path>
              <a:path fill="lighten" w="21600" h="23728">
                <a:moveTo>
                  <a:pt x="0" y="237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28"/>
                </a:lnTo>
                <a:close/>
              </a:path>
              <a:path fill="darken" w="21600" h="23728">
                <a:moveTo>
                  <a:pt x="3794" y="4858"/>
                </a:moveTo>
                <a:lnTo>
                  <a:pt x="17806" y="11864"/>
                </a:lnTo>
                <a:lnTo>
                  <a:pt x="3794" y="188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77080" y="6364440"/>
            <a:ext cx="8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9(d-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0"/>
          </p:cNvPr>
          <p:cNvSpPr/>
          <p:nvPr/>
        </p:nvSpPr>
        <p:spPr>
          <a:xfrm>
            <a:off x="5972040" y="917640"/>
            <a:ext cx="270000" cy="264960"/>
          </a:xfrm>
          <a:custGeom>
            <a:avLst/>
            <a:gdLst>
              <a:gd name="textAreaLeft" fmla="*/ 16920 w 270000"/>
              <a:gd name="textAreaRight" fmla="*/ 253080 w 270000"/>
              <a:gd name="textAreaTop" fmla="*/ 16920 h 264960"/>
              <a:gd name="textAreaBottom" fmla="*/ 248040 h 264960"/>
            </a:gdLst>
            <a:ahLst/>
            <a:rect l="textAreaLeft" t="textAreaTop" r="textAreaRight" b="textAreaBottom"/>
            <a:pathLst>
              <a:path w="22010" h="21600">
                <a:moveTo>
                  <a:pt x="0" y="0"/>
                </a:moveTo>
                <a:lnTo>
                  <a:pt x="22010" y="0"/>
                </a:lnTo>
                <a:lnTo>
                  <a:pt x="22010" y="21600"/>
                </a:lnTo>
                <a:lnTo>
                  <a:pt x="0" y="21600"/>
                </a:lnTo>
                <a:close/>
              </a:path>
              <a:path fill="lightenLess" w="22010" h="21600">
                <a:moveTo>
                  <a:pt x="0" y="0"/>
                </a:moveTo>
                <a:lnTo>
                  <a:pt x="22010" y="0"/>
                </a:lnTo>
                <a:lnTo>
                  <a:pt x="20610" y="1400"/>
                </a:lnTo>
                <a:lnTo>
                  <a:pt x="1400" y="1400"/>
                </a:lnTo>
                <a:close/>
              </a:path>
              <a:path fill="darken" w="22010" h="21600">
                <a:moveTo>
                  <a:pt x="22010" y="0"/>
                </a:moveTo>
                <a:lnTo>
                  <a:pt x="22010" y="21600"/>
                </a:lnTo>
                <a:lnTo>
                  <a:pt x="20610" y="20200"/>
                </a:lnTo>
                <a:lnTo>
                  <a:pt x="20610" y="1400"/>
                </a:lnTo>
                <a:close/>
              </a:path>
              <a:path fill="darkenLess" w="22010" h="21600">
                <a:moveTo>
                  <a:pt x="22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10" y="20200"/>
                </a:lnTo>
                <a:close/>
              </a:path>
              <a:path fill="lighten" w="22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10" h="21600">
                <a:moveTo>
                  <a:pt x="3999" y="3794"/>
                </a:moveTo>
                <a:lnTo>
                  <a:pt x="18012" y="10800"/>
                </a:lnTo>
                <a:lnTo>
                  <a:pt x="39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42040" y="922320"/>
            <a:ext cx="7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1"/>
          </p:cNvPr>
          <p:cNvSpPr/>
          <p:nvPr/>
        </p:nvSpPr>
        <p:spPr>
          <a:xfrm>
            <a:off x="1101600" y="2851200"/>
            <a:ext cx="270000" cy="29664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6640"/>
              <a:gd name="textAreaBottom" fmla="*/ 279360 h 296640"/>
            </a:gdLst>
            <a:ahLst/>
            <a:rect l="textAreaLeft" t="textAreaTop" r="textAreaRight" b="textAreaBottom"/>
            <a:pathLst>
              <a:path w="21600" h="23728">
                <a:moveTo>
                  <a:pt x="0" y="0"/>
                </a:moveTo>
                <a:lnTo>
                  <a:pt x="21600" y="0"/>
                </a:lnTo>
                <a:lnTo>
                  <a:pt x="21600" y="23728"/>
                </a:lnTo>
                <a:lnTo>
                  <a:pt x="0" y="23728"/>
                </a:lnTo>
                <a:close/>
              </a:path>
              <a:path fill="lightenLess" w="21600" h="237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28">
                <a:moveTo>
                  <a:pt x="21600" y="0"/>
                </a:moveTo>
                <a:lnTo>
                  <a:pt x="21600" y="23728"/>
                </a:lnTo>
                <a:lnTo>
                  <a:pt x="20200" y="22328"/>
                </a:lnTo>
                <a:lnTo>
                  <a:pt x="20200" y="1400"/>
                </a:lnTo>
                <a:close/>
              </a:path>
              <a:path fill="darkenLess" w="21600" h="23728">
                <a:moveTo>
                  <a:pt x="21600" y="23728"/>
                </a:moveTo>
                <a:lnTo>
                  <a:pt x="0" y="23728"/>
                </a:lnTo>
                <a:lnTo>
                  <a:pt x="1400" y="22328"/>
                </a:lnTo>
                <a:lnTo>
                  <a:pt x="20200" y="22328"/>
                </a:lnTo>
                <a:close/>
              </a:path>
              <a:path fill="lighten" w="21600" h="23728">
                <a:moveTo>
                  <a:pt x="0" y="237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28"/>
                </a:lnTo>
                <a:close/>
              </a:path>
              <a:path fill="darken" w="21600" h="23728">
                <a:moveTo>
                  <a:pt x="3794" y="4858"/>
                </a:moveTo>
                <a:lnTo>
                  <a:pt x="17806" y="11864"/>
                </a:lnTo>
                <a:lnTo>
                  <a:pt x="3794" y="188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12"/>
          </p:cNvPr>
          <p:cNvSpPr/>
          <p:nvPr/>
        </p:nvSpPr>
        <p:spPr>
          <a:xfrm>
            <a:off x="1305000" y="2851200"/>
            <a:ext cx="7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905280" y="6912000"/>
            <a:ext cx="1266840" cy="8128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e al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tisfact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in d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im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56240" y="7095960"/>
            <a:ext cx="944640" cy="4431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pare Clos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ment (C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18040" y="7989840"/>
            <a:ext cx="841320" cy="216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51160" y="4976640"/>
            <a:ext cx="2700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1440" y="7240680"/>
            <a:ext cx="97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losure Ph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360" y="6327720"/>
            <a:ext cx="6570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6480" y="243000"/>
            <a:ext cx="72072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om previ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1760" y="4797360"/>
            <a:ext cx="1350720" cy="7225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propos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greed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2000" y="577224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72120" y="7135920"/>
            <a:ext cx="2700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03560" y="4991040"/>
            <a:ext cx="26964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520" y="8442360"/>
            <a:ext cx="6570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35440" y="8532720"/>
            <a:ext cx="944280" cy="4431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y furt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ons initia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y Commi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62440" y="4056120"/>
            <a:ext cx="911160" cy="495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alyse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38640" y="2571840"/>
            <a:ext cx="901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 12th we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-55440" y="4632120"/>
            <a:ext cx="109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llow-up Ph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59480" y="5045040"/>
            <a:ext cx="96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 28th wee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8640" y="3941640"/>
            <a:ext cx="1351080" cy="7225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propos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nt and s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due time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05080" y="4124160"/>
            <a:ext cx="2700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98680" y="243000"/>
            <a:ext cx="241560" cy="2397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2920" y="603360"/>
            <a:ext cx="6570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52360" y="4710240"/>
            <a:ext cx="270000" cy="13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57400" y="2406600"/>
            <a:ext cx="922320" cy="5000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ify F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NAA, MS 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U Commiss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89440" y="750960"/>
            <a:ext cx="860400" cy="480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ify Find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d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l Re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62360" y="1150920"/>
            <a:ext cx="487440" cy="2714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70160" y="1359000"/>
            <a:ext cx="844560" cy="485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nd D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N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commen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78120" y="1739880"/>
            <a:ext cx="860400" cy="480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p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l Re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35560" y="2160720"/>
            <a:ext cx="479520" cy="2854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36" idx="4"/>
            <a:endCxn id="140" idx="0"/>
          </p:cNvCxnSpPr>
          <p:nvPr/>
        </p:nvCxnSpPr>
        <p:spPr>
          <a:xfrm flipV="1" rot="10800000">
            <a:off x="3418920" y="482400"/>
            <a:ext cx="1080" cy="26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0" idx="2"/>
            <a:endCxn id="142" idx="3"/>
          </p:cNvCxnSpPr>
          <p:nvPr/>
        </p:nvCxnSpPr>
        <p:spPr>
          <a:xfrm rot="5400000">
            <a:off x="3081600" y="1263960"/>
            <a:ext cx="37044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2"/>
            <a:endCxn id="143" idx="1"/>
          </p:cNvCxnSpPr>
          <p:nvPr/>
        </p:nvCxnSpPr>
        <p:spPr>
          <a:xfrm flipH="1" rot="16200000">
            <a:off x="3116880" y="1419480"/>
            <a:ext cx="137160" cy="986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3" idx="2"/>
            <a:endCxn id="139" idx="3"/>
          </p:cNvCxnSpPr>
          <p:nvPr/>
        </p:nvCxnSpPr>
        <p:spPr>
          <a:xfrm rot="5400000">
            <a:off x="3774960" y="2324520"/>
            <a:ext cx="43740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 rot="16200000">
            <a:off x="131400" y="1614960"/>
            <a:ext cx="109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porting Ph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360" y="3041640"/>
            <a:ext cx="6570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55960" y="3197160"/>
            <a:ext cx="922320" cy="5428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 fr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medial A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lans (RA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39" idx="2"/>
            <a:endCxn id="151" idx="0"/>
          </p:cNvCxnSpPr>
          <p:nvPr/>
        </p:nvCxnSpPr>
        <p:spPr>
          <a:xfrm rot="5400000">
            <a:off x="3272760" y="3050640"/>
            <a:ext cx="291240" cy="252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3789360" y="3670200"/>
            <a:ext cx="584280" cy="31608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00480" y="3511440"/>
            <a:ext cx="161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 22nd week (Class 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94360" y="3267000"/>
            <a:ext cx="176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+ 14th week (Class c &amp; 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25920" y="5697360"/>
            <a:ext cx="911160" cy="49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55800" y="4917960"/>
            <a:ext cx="896760" cy="480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p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pplemen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 (S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42840" y="5681520"/>
            <a:ext cx="922320" cy="5000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ify S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NAA, MS 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U Commiss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33400" y="5318280"/>
            <a:ext cx="346320" cy="20160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1" idx="1"/>
            <a:endCxn id="134" idx="0"/>
          </p:cNvCxnSpPr>
          <p:nvPr/>
        </p:nvCxnSpPr>
        <p:spPr>
          <a:xfrm flipV="1" rot="10800000">
            <a:off x="1404360" y="3468240"/>
            <a:ext cx="155160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34" idx="3"/>
            <a:endCxn id="130" idx="1"/>
          </p:cNvCxnSpPr>
          <p:nvPr/>
        </p:nvCxnSpPr>
        <p:spPr>
          <a:xfrm>
            <a:off x="2079720" y="4303440"/>
            <a:ext cx="883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34" idx="2"/>
            <a:endCxn id="157" idx="0"/>
          </p:cNvCxnSpPr>
          <p:nvPr/>
        </p:nvCxnSpPr>
        <p:spPr>
          <a:xfrm flipV="1" rot="10800000">
            <a:off x="1404360" y="4663800"/>
            <a:ext cx="1080" cy="254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4519440" y="4888080"/>
            <a:ext cx="922680" cy="5428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ify to N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l RAP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92720" y="5318280"/>
            <a:ext cx="566640" cy="2570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l RA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30" idx="2"/>
            <a:endCxn id="124" idx="0"/>
          </p:cNvCxnSpPr>
          <p:nvPr/>
        </p:nvCxnSpPr>
        <p:spPr>
          <a:xfrm flipV="1" rot="10800000">
            <a:off x="3417120" y="4551120"/>
            <a:ext cx="1080" cy="246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24" idx="1"/>
            <a:endCxn id="157" idx="3"/>
          </p:cNvCxnSpPr>
          <p:nvPr/>
        </p:nvCxnSpPr>
        <p:spPr>
          <a:xfrm rot="10800000">
            <a:off x="1851840" y="5158800"/>
            <a:ext cx="889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24" idx="3"/>
            <a:endCxn id="163" idx="1"/>
          </p:cNvCxnSpPr>
          <p:nvPr/>
        </p:nvCxnSpPr>
        <p:spPr>
          <a:xfrm>
            <a:off x="4092480" y="5159160"/>
            <a:ext cx="427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3" idx="2"/>
            <a:endCxn id="156" idx="0"/>
          </p:cNvCxnSpPr>
          <p:nvPr/>
        </p:nvCxnSpPr>
        <p:spPr>
          <a:xfrm flipV="1" rot="10800000">
            <a:off x="4980960" y="5430600"/>
            <a:ext cx="108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951280" y="5673600"/>
            <a:ext cx="922320" cy="542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eive/ evalu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medial a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ords from NA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56" idx="1"/>
            <a:endCxn id="169" idx="3"/>
          </p:cNvCxnSpPr>
          <p:nvPr/>
        </p:nvCxnSpPr>
        <p:spPr>
          <a:xfrm rot="10800000">
            <a:off x="3872880" y="5944320"/>
            <a:ext cx="653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5567400" y="7846920"/>
            <a:ext cx="922320" cy="5000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ify S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NAA, MS 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U Commiss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68640" y="8182080"/>
            <a:ext cx="36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98680" y="7140600"/>
            <a:ext cx="2700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7120" y="7081920"/>
            <a:ext cx="896760" cy="480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p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pplemen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ort (SR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84520" y="7835760"/>
            <a:ext cx="922320" cy="5000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ify S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NAA, MS +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U Commiss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74" idx="2"/>
            <a:endCxn id="175" idx="0"/>
          </p:cNvCxnSpPr>
          <p:nvPr/>
        </p:nvCxnSpPr>
        <p:spPr>
          <a:xfrm flipV="1" rot="10800000">
            <a:off x="2245680" y="7562880"/>
            <a:ext cx="1080" cy="273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2575080" y="7481880"/>
            <a:ext cx="345960" cy="20160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17" idx="1"/>
            <a:endCxn id="174" idx="3"/>
          </p:cNvCxnSpPr>
          <p:nvPr/>
        </p:nvCxnSpPr>
        <p:spPr>
          <a:xfrm flipV="1" rot="10800000">
            <a:off x="2693160" y="7317360"/>
            <a:ext cx="1212120" cy="540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18" idx="2"/>
            <a:endCxn id="171" idx="0"/>
          </p:cNvCxnSpPr>
          <p:nvPr/>
        </p:nvCxnSpPr>
        <p:spPr>
          <a:xfrm flipV="1" rot="10800000">
            <a:off x="6028560" y="7538760"/>
            <a:ext cx="1080" cy="30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2921040" y="6462720"/>
            <a:ext cx="984240" cy="542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rry o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-hoc insp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f necess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69" idx="2"/>
            <a:endCxn id="180" idx="0"/>
          </p:cNvCxnSpPr>
          <p:nvPr/>
        </p:nvCxnSpPr>
        <p:spPr>
          <a:xfrm flipV="1" rot="10800000">
            <a:off x="3412440" y="6216120"/>
            <a:ext cx="1080" cy="24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58" idx="2"/>
            <a:endCxn id="129" idx="1"/>
          </p:cNvCxnSpPr>
          <p:nvPr/>
        </p:nvCxnSpPr>
        <p:spPr>
          <a:xfrm flipH="1" rot="16200000">
            <a:off x="882360" y="6702840"/>
            <a:ext cx="2574360" cy="153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5" idx="3"/>
            <a:endCxn id="129" idx="0"/>
          </p:cNvCxnSpPr>
          <p:nvPr/>
        </p:nvCxnSpPr>
        <p:spPr>
          <a:xfrm>
            <a:off x="2706480" y="8086320"/>
            <a:ext cx="702360" cy="44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0" idx="3"/>
            <a:endCxn id="117" idx="0"/>
          </p:cNvCxnSpPr>
          <p:nvPr/>
        </p:nvCxnSpPr>
        <p:spPr>
          <a:xfrm>
            <a:off x="3904920" y="6734160"/>
            <a:ext cx="633960" cy="17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17" idx="3"/>
            <a:endCxn id="118" idx="1"/>
          </p:cNvCxnSpPr>
          <p:nvPr/>
        </p:nvCxnSpPr>
        <p:spPr>
          <a:xfrm>
            <a:off x="5171760" y="7318080"/>
            <a:ext cx="384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1" idx="1"/>
            <a:endCxn id="119" idx="3"/>
          </p:cNvCxnSpPr>
          <p:nvPr/>
        </p:nvCxnSpPr>
        <p:spPr>
          <a:xfrm rot="10800000">
            <a:off x="4958640" y="8097120"/>
            <a:ext cx="6087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6369120" y="7456320"/>
            <a:ext cx="345960" cy="2019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3760" y="8618400"/>
            <a:ext cx="123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ission Ph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304920" cy="5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0492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0" y="0"/>
            <a:ext cx="9367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ASA-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7.07.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3"/>
          </p:cNvPr>
          <p:cNvSpPr/>
          <p:nvPr/>
        </p:nvSpPr>
        <p:spPr>
          <a:xfrm>
            <a:off x="5543640" y="1827360"/>
            <a:ext cx="269640" cy="296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96640"/>
              <a:gd name="textAreaBottom" fmla="*/ 279360 h 296640"/>
            </a:gdLst>
            <a:ahLst/>
            <a:rect l="textAreaLeft" t="textAreaTop" r="textAreaRight" b="textAreaBottom"/>
            <a:pathLst>
              <a:path w="21600" h="23760">
                <a:moveTo>
                  <a:pt x="0" y="0"/>
                </a:moveTo>
                <a:lnTo>
                  <a:pt x="21600" y="0"/>
                </a:lnTo>
                <a:lnTo>
                  <a:pt x="21600" y="23760"/>
                </a:lnTo>
                <a:lnTo>
                  <a:pt x="0" y="23760"/>
                </a:lnTo>
                <a:close/>
              </a:path>
              <a:path fill="lightenLess" w="21600" h="237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0">
                <a:moveTo>
                  <a:pt x="21600" y="0"/>
                </a:moveTo>
                <a:lnTo>
                  <a:pt x="21600" y="23760"/>
                </a:lnTo>
                <a:lnTo>
                  <a:pt x="20200" y="22360"/>
                </a:lnTo>
                <a:lnTo>
                  <a:pt x="20200" y="1400"/>
                </a:lnTo>
                <a:close/>
              </a:path>
              <a:path fill="darkenLess" w="21600" h="23760">
                <a:moveTo>
                  <a:pt x="21600" y="23760"/>
                </a:moveTo>
                <a:lnTo>
                  <a:pt x="0" y="23760"/>
                </a:lnTo>
                <a:lnTo>
                  <a:pt x="1400" y="22360"/>
                </a:lnTo>
                <a:lnTo>
                  <a:pt x="20200" y="22360"/>
                </a:lnTo>
                <a:close/>
              </a:path>
              <a:path fill="lighten" w="21600" h="23760">
                <a:moveTo>
                  <a:pt x="0" y="237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0"/>
                </a:lnTo>
                <a:close/>
              </a:path>
              <a:path fill="darken" w="21600" h="23760">
                <a:moveTo>
                  <a:pt x="3794" y="4874"/>
                </a:moveTo>
                <a:lnTo>
                  <a:pt x="17806" y="11880"/>
                </a:lnTo>
                <a:lnTo>
                  <a:pt x="3794" y="1888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13280" y="1849320"/>
            <a:ext cx="8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48120" y="3267000"/>
            <a:ext cx="270000" cy="297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7000"/>
              <a:gd name="textAreaBottom" fmla="*/ 279720 h 297000"/>
            </a:gdLst>
            <a:ahLst/>
            <a:rect l="textAreaLeft" t="textAreaTop" r="textAreaRight" b="textAreaBottom"/>
            <a:pathLst>
              <a:path w="21600" h="23757">
                <a:moveTo>
                  <a:pt x="0" y="0"/>
                </a:moveTo>
                <a:lnTo>
                  <a:pt x="21600" y="0"/>
                </a:lnTo>
                <a:lnTo>
                  <a:pt x="21600" y="23757"/>
                </a:lnTo>
                <a:lnTo>
                  <a:pt x="0" y="23757"/>
                </a:lnTo>
                <a:close/>
              </a:path>
              <a:path fill="lightenLess" w="21600" h="237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7">
                <a:moveTo>
                  <a:pt x="21600" y="0"/>
                </a:moveTo>
                <a:lnTo>
                  <a:pt x="21600" y="23757"/>
                </a:lnTo>
                <a:lnTo>
                  <a:pt x="20200" y="22357"/>
                </a:lnTo>
                <a:lnTo>
                  <a:pt x="20200" y="1400"/>
                </a:lnTo>
                <a:close/>
              </a:path>
              <a:path fill="darkenLess" w="21600" h="23757">
                <a:moveTo>
                  <a:pt x="21600" y="23757"/>
                </a:moveTo>
                <a:lnTo>
                  <a:pt x="0" y="23757"/>
                </a:lnTo>
                <a:lnTo>
                  <a:pt x="1400" y="22357"/>
                </a:lnTo>
                <a:lnTo>
                  <a:pt x="20200" y="22357"/>
                </a:lnTo>
                <a:close/>
              </a:path>
              <a:path fill="lighten" w="21600" h="23757">
                <a:moveTo>
                  <a:pt x="0" y="237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7"/>
                </a:lnTo>
                <a:close/>
              </a:path>
              <a:path fill="darken" w="21600" h="23757">
                <a:moveTo>
                  <a:pt x="3794" y="4872"/>
                </a:moveTo>
                <a:lnTo>
                  <a:pt x="17806" y="11879"/>
                </a:lnTo>
                <a:lnTo>
                  <a:pt x="3794" y="188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51160" y="3267000"/>
            <a:ext cx="8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00"/>
                </a:solidFill>
                <a:latin typeface="Arial"/>
              </a:rPr>
              <a:t>Art. 15.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4"/>
          </p:cNvPr>
          <p:cNvSpPr/>
          <p:nvPr/>
        </p:nvSpPr>
        <p:spPr>
          <a:xfrm>
            <a:off x="5656320" y="4702320"/>
            <a:ext cx="269640" cy="296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96640"/>
              <a:gd name="textAreaBottom" fmla="*/ 279360 h 296640"/>
            </a:gdLst>
            <a:ahLst/>
            <a:rect l="textAreaLeft" t="textAreaTop" r="textAreaRight" b="textAreaBottom"/>
            <a:pathLst>
              <a:path w="21600" h="23760">
                <a:moveTo>
                  <a:pt x="0" y="0"/>
                </a:moveTo>
                <a:lnTo>
                  <a:pt x="21600" y="0"/>
                </a:lnTo>
                <a:lnTo>
                  <a:pt x="21600" y="23760"/>
                </a:lnTo>
                <a:lnTo>
                  <a:pt x="0" y="23760"/>
                </a:lnTo>
                <a:close/>
              </a:path>
              <a:path fill="lightenLess" w="21600" h="237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0">
                <a:moveTo>
                  <a:pt x="21600" y="0"/>
                </a:moveTo>
                <a:lnTo>
                  <a:pt x="21600" y="23760"/>
                </a:lnTo>
                <a:lnTo>
                  <a:pt x="20200" y="22360"/>
                </a:lnTo>
                <a:lnTo>
                  <a:pt x="20200" y="1400"/>
                </a:lnTo>
                <a:close/>
              </a:path>
              <a:path fill="darkenLess" w="21600" h="23760">
                <a:moveTo>
                  <a:pt x="21600" y="23760"/>
                </a:moveTo>
                <a:lnTo>
                  <a:pt x="0" y="23760"/>
                </a:lnTo>
                <a:lnTo>
                  <a:pt x="1400" y="22360"/>
                </a:lnTo>
                <a:lnTo>
                  <a:pt x="20200" y="22360"/>
                </a:lnTo>
                <a:close/>
              </a:path>
              <a:path fill="lighten" w="21600" h="23760">
                <a:moveTo>
                  <a:pt x="0" y="237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0"/>
                </a:lnTo>
                <a:close/>
              </a:path>
              <a:path fill="darken" w="21600" h="23760">
                <a:moveTo>
                  <a:pt x="3794" y="4874"/>
                </a:moveTo>
                <a:lnTo>
                  <a:pt x="17806" y="11880"/>
                </a:lnTo>
                <a:lnTo>
                  <a:pt x="3794" y="1888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59360" y="4702320"/>
            <a:ext cx="8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11 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5"/>
          </p:cNvPr>
          <p:cNvSpPr/>
          <p:nvPr/>
        </p:nvSpPr>
        <p:spPr>
          <a:xfrm>
            <a:off x="5508720" y="5807160"/>
            <a:ext cx="269640" cy="296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96640"/>
              <a:gd name="textAreaBottom" fmla="*/ 279360 h 296640"/>
            </a:gdLst>
            <a:ahLst/>
            <a:rect l="textAreaLeft" t="textAreaTop" r="textAreaRight" b="textAreaBottom"/>
            <a:pathLst>
              <a:path w="21600" h="23760">
                <a:moveTo>
                  <a:pt x="0" y="0"/>
                </a:moveTo>
                <a:lnTo>
                  <a:pt x="21600" y="0"/>
                </a:lnTo>
                <a:lnTo>
                  <a:pt x="21600" y="23760"/>
                </a:lnTo>
                <a:lnTo>
                  <a:pt x="0" y="23760"/>
                </a:lnTo>
                <a:close/>
              </a:path>
              <a:path fill="lightenLess" w="21600" h="237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0">
                <a:moveTo>
                  <a:pt x="21600" y="0"/>
                </a:moveTo>
                <a:lnTo>
                  <a:pt x="21600" y="23760"/>
                </a:lnTo>
                <a:lnTo>
                  <a:pt x="20200" y="22360"/>
                </a:lnTo>
                <a:lnTo>
                  <a:pt x="20200" y="1400"/>
                </a:lnTo>
                <a:close/>
              </a:path>
              <a:path fill="darkenLess" w="21600" h="23760">
                <a:moveTo>
                  <a:pt x="21600" y="23760"/>
                </a:moveTo>
                <a:lnTo>
                  <a:pt x="0" y="23760"/>
                </a:lnTo>
                <a:lnTo>
                  <a:pt x="1400" y="22360"/>
                </a:lnTo>
                <a:lnTo>
                  <a:pt x="20200" y="22360"/>
                </a:lnTo>
                <a:close/>
              </a:path>
              <a:path fill="lighten" w="21600" h="23760">
                <a:moveTo>
                  <a:pt x="0" y="237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0"/>
                </a:lnTo>
                <a:close/>
              </a:path>
              <a:path fill="darken" w="21600" h="23760">
                <a:moveTo>
                  <a:pt x="3794" y="4874"/>
                </a:moveTo>
                <a:lnTo>
                  <a:pt x="17806" y="11880"/>
                </a:lnTo>
                <a:lnTo>
                  <a:pt x="3794" y="1888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11760" y="5807160"/>
            <a:ext cx="8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11 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63960" y="7539120"/>
            <a:ext cx="270000" cy="29664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6640"/>
              <a:gd name="textAreaBottom" fmla="*/ 279360 h 296640"/>
            </a:gdLst>
            <a:ahLst/>
            <a:rect l="textAreaLeft" t="textAreaTop" r="textAreaRight" b="textAreaBottom"/>
            <a:pathLst>
              <a:path w="21600" h="23728">
                <a:moveTo>
                  <a:pt x="0" y="0"/>
                </a:moveTo>
                <a:lnTo>
                  <a:pt x="21600" y="0"/>
                </a:lnTo>
                <a:lnTo>
                  <a:pt x="21600" y="23728"/>
                </a:lnTo>
                <a:lnTo>
                  <a:pt x="0" y="23728"/>
                </a:lnTo>
                <a:close/>
              </a:path>
              <a:path fill="lightenLess" w="21600" h="237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28">
                <a:moveTo>
                  <a:pt x="21600" y="0"/>
                </a:moveTo>
                <a:lnTo>
                  <a:pt x="21600" y="23728"/>
                </a:lnTo>
                <a:lnTo>
                  <a:pt x="20200" y="22328"/>
                </a:lnTo>
                <a:lnTo>
                  <a:pt x="20200" y="1400"/>
                </a:lnTo>
                <a:close/>
              </a:path>
              <a:path fill="darkenLess" w="21600" h="23728">
                <a:moveTo>
                  <a:pt x="21600" y="23728"/>
                </a:moveTo>
                <a:lnTo>
                  <a:pt x="0" y="23728"/>
                </a:lnTo>
                <a:lnTo>
                  <a:pt x="1400" y="22328"/>
                </a:lnTo>
                <a:lnTo>
                  <a:pt x="20200" y="22328"/>
                </a:lnTo>
                <a:close/>
              </a:path>
              <a:path fill="lighten" w="21600" h="23728">
                <a:moveTo>
                  <a:pt x="0" y="237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28"/>
                </a:lnTo>
                <a:close/>
              </a:path>
              <a:path fill="darken" w="21600" h="23728">
                <a:moveTo>
                  <a:pt x="3794" y="4858"/>
                </a:moveTo>
                <a:lnTo>
                  <a:pt x="17806" y="11864"/>
                </a:lnTo>
                <a:lnTo>
                  <a:pt x="3794" y="188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6"/>
          </p:cNvPr>
          <p:cNvSpPr/>
          <p:nvPr/>
        </p:nvSpPr>
        <p:spPr>
          <a:xfrm>
            <a:off x="5067360" y="7539120"/>
            <a:ext cx="8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7"/>
          </p:cNvPr>
          <p:cNvSpPr/>
          <p:nvPr/>
        </p:nvSpPr>
        <p:spPr>
          <a:xfrm>
            <a:off x="5556240" y="750960"/>
            <a:ext cx="270000" cy="29664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6640"/>
              <a:gd name="textAreaBottom" fmla="*/ 279360 h 296640"/>
            </a:gdLst>
            <a:ahLst/>
            <a:rect l="textAreaLeft" t="textAreaTop" r="textAreaRight" b="textAreaBottom"/>
            <a:pathLst>
              <a:path w="21600" h="23728">
                <a:moveTo>
                  <a:pt x="0" y="0"/>
                </a:moveTo>
                <a:lnTo>
                  <a:pt x="21600" y="0"/>
                </a:lnTo>
                <a:lnTo>
                  <a:pt x="21600" y="23728"/>
                </a:lnTo>
                <a:lnTo>
                  <a:pt x="0" y="23728"/>
                </a:lnTo>
                <a:close/>
              </a:path>
              <a:path fill="lightenLess" w="21600" h="237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28">
                <a:moveTo>
                  <a:pt x="21600" y="0"/>
                </a:moveTo>
                <a:lnTo>
                  <a:pt x="21600" y="23728"/>
                </a:lnTo>
                <a:lnTo>
                  <a:pt x="20200" y="22328"/>
                </a:lnTo>
                <a:lnTo>
                  <a:pt x="20200" y="1400"/>
                </a:lnTo>
                <a:close/>
              </a:path>
              <a:path fill="darkenLess" w="21600" h="23728">
                <a:moveTo>
                  <a:pt x="21600" y="23728"/>
                </a:moveTo>
                <a:lnTo>
                  <a:pt x="0" y="23728"/>
                </a:lnTo>
                <a:lnTo>
                  <a:pt x="1400" y="22328"/>
                </a:lnTo>
                <a:lnTo>
                  <a:pt x="20200" y="22328"/>
                </a:lnTo>
                <a:close/>
              </a:path>
              <a:path fill="lighten" w="21600" h="23728">
                <a:moveTo>
                  <a:pt x="0" y="237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28"/>
                </a:lnTo>
                <a:close/>
              </a:path>
              <a:path fill="darken" w="21600" h="23728">
                <a:moveTo>
                  <a:pt x="3794" y="4858"/>
                </a:moveTo>
                <a:lnTo>
                  <a:pt x="17806" y="11864"/>
                </a:lnTo>
                <a:lnTo>
                  <a:pt x="3794" y="188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59280" y="750960"/>
            <a:ext cx="8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Art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8"/>
          </p:cNvPr>
          <p:cNvSpPr/>
          <p:nvPr/>
        </p:nvSpPr>
        <p:spPr>
          <a:xfrm>
            <a:off x="1905120" y="6570720"/>
            <a:ext cx="269640" cy="296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96640"/>
              <a:gd name="textAreaBottom" fmla="*/ 279360 h 296640"/>
            </a:gdLst>
            <a:ahLst/>
            <a:rect l="textAreaLeft" t="textAreaTop" r="textAreaRight" b="textAreaBottom"/>
            <a:pathLst>
              <a:path w="21600" h="23760">
                <a:moveTo>
                  <a:pt x="0" y="0"/>
                </a:moveTo>
                <a:lnTo>
                  <a:pt x="21600" y="0"/>
                </a:lnTo>
                <a:lnTo>
                  <a:pt x="21600" y="23760"/>
                </a:lnTo>
                <a:lnTo>
                  <a:pt x="0" y="23760"/>
                </a:lnTo>
                <a:close/>
              </a:path>
              <a:path fill="lightenLess" w="21600" h="237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0">
                <a:moveTo>
                  <a:pt x="21600" y="0"/>
                </a:moveTo>
                <a:lnTo>
                  <a:pt x="21600" y="23760"/>
                </a:lnTo>
                <a:lnTo>
                  <a:pt x="20200" y="22360"/>
                </a:lnTo>
                <a:lnTo>
                  <a:pt x="20200" y="1400"/>
                </a:lnTo>
                <a:close/>
              </a:path>
              <a:path fill="darkenLess" w="21600" h="23760">
                <a:moveTo>
                  <a:pt x="21600" y="23760"/>
                </a:moveTo>
                <a:lnTo>
                  <a:pt x="0" y="23760"/>
                </a:lnTo>
                <a:lnTo>
                  <a:pt x="1400" y="22360"/>
                </a:lnTo>
                <a:lnTo>
                  <a:pt x="20200" y="22360"/>
                </a:lnTo>
                <a:close/>
              </a:path>
              <a:path fill="lighten" w="21600" h="23760">
                <a:moveTo>
                  <a:pt x="0" y="237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0"/>
                </a:lnTo>
                <a:close/>
              </a:path>
              <a:path fill="darken" w="21600" h="23760">
                <a:moveTo>
                  <a:pt x="3794" y="4874"/>
                </a:moveTo>
                <a:lnTo>
                  <a:pt x="17806" y="11880"/>
                </a:lnTo>
                <a:lnTo>
                  <a:pt x="3794" y="1888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08160" y="6570720"/>
            <a:ext cx="8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00"/>
                </a:solidFill>
                <a:latin typeface="Arial"/>
              </a:rPr>
              <a:t>Art. 15.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9"/>
          </p:cNvPr>
          <p:cNvSpPr/>
          <p:nvPr/>
        </p:nvSpPr>
        <p:spPr>
          <a:xfrm>
            <a:off x="6029280" y="8532720"/>
            <a:ext cx="563760" cy="443160"/>
          </a:xfrm>
          <a:custGeom>
            <a:avLst/>
            <a:gdLst>
              <a:gd name="textAreaLeft" fmla="*/ 28440 w 563760"/>
              <a:gd name="textAreaRight" fmla="*/ 535320 w 563760"/>
              <a:gd name="textAreaTop" fmla="*/ 28440 h 443160"/>
              <a:gd name="textAreaBottom" fmla="*/ 414720 h 443160"/>
            </a:gdLst>
            <a:ahLst/>
            <a:rect l="textAreaLeft" t="textAreaTop" r="textAreaRight" b="textAreaBottom"/>
            <a:pathLst>
              <a:path w="27473" h="21600">
                <a:moveTo>
                  <a:pt x="0" y="0"/>
                </a:moveTo>
                <a:lnTo>
                  <a:pt x="27473" y="0"/>
                </a:lnTo>
                <a:lnTo>
                  <a:pt x="27473" y="21600"/>
                </a:lnTo>
                <a:lnTo>
                  <a:pt x="0" y="21600"/>
                </a:lnTo>
                <a:close/>
              </a:path>
              <a:path fill="lightenLess" w="27473" h="21600">
                <a:moveTo>
                  <a:pt x="0" y="0"/>
                </a:moveTo>
                <a:lnTo>
                  <a:pt x="27473" y="0"/>
                </a:lnTo>
                <a:lnTo>
                  <a:pt x="26073" y="1400"/>
                </a:lnTo>
                <a:lnTo>
                  <a:pt x="1400" y="1400"/>
                </a:lnTo>
                <a:close/>
              </a:path>
              <a:path fill="darken" w="27473" h="21600">
                <a:moveTo>
                  <a:pt x="27473" y="0"/>
                </a:moveTo>
                <a:lnTo>
                  <a:pt x="27473" y="21600"/>
                </a:lnTo>
                <a:lnTo>
                  <a:pt x="26073" y="20200"/>
                </a:lnTo>
                <a:lnTo>
                  <a:pt x="26073" y="1400"/>
                </a:lnTo>
                <a:close/>
              </a:path>
              <a:path fill="darkenLess" w="27473" h="21600">
                <a:moveTo>
                  <a:pt x="27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73" y="20200"/>
                </a:lnTo>
                <a:close/>
              </a:path>
              <a:path fill="lighten" w="27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73" h="21600">
                <a:moveTo>
                  <a:pt x="6730" y="7493"/>
                </a:moveTo>
                <a:lnTo>
                  <a:pt x="10238" y="7493"/>
                </a:lnTo>
                <a:lnTo>
                  <a:pt x="10238" y="12828"/>
                </a:lnTo>
                <a:cubicBezTo>
                  <a:pt x="10238" y="13751"/>
                  <a:pt x="11039" y="14482"/>
                  <a:pt x="12074" y="14482"/>
                </a:cubicBezTo>
                <a:lnTo>
                  <a:pt x="13737" y="14482"/>
                </a:lnTo>
                <a:cubicBezTo>
                  <a:pt x="14772" y="14482"/>
                  <a:pt x="15573" y="13751"/>
                  <a:pt x="15573" y="12828"/>
                </a:cubicBezTo>
                <a:lnTo>
                  <a:pt x="15573" y="7493"/>
                </a:lnTo>
                <a:lnTo>
                  <a:pt x="13737" y="7493"/>
                </a:lnTo>
                <a:lnTo>
                  <a:pt x="17244" y="3985"/>
                </a:lnTo>
                <a:lnTo>
                  <a:pt x="20917" y="7493"/>
                </a:lnTo>
                <a:lnTo>
                  <a:pt x="19081" y="7493"/>
                </a:lnTo>
                <a:lnTo>
                  <a:pt x="19081" y="12828"/>
                </a:lnTo>
                <a:cubicBezTo>
                  <a:pt x="19081" y="15596"/>
                  <a:pt x="16504" y="18155"/>
                  <a:pt x="13737" y="18155"/>
                </a:cubicBezTo>
                <a:lnTo>
                  <a:pt x="12074" y="18155"/>
                </a:lnTo>
                <a:cubicBezTo>
                  <a:pt x="9307" y="18155"/>
                  <a:pt x="6730" y="15596"/>
                  <a:pt x="6730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10040" y="8618400"/>
            <a:ext cx="270000" cy="297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7000"/>
              <a:gd name="textAreaBottom" fmla="*/ 279720 h 297000"/>
            </a:gdLst>
            <a:ahLst/>
            <a:rect l="textAreaLeft" t="textAreaTop" r="textAreaRight" b="textAreaBottom"/>
            <a:pathLst>
              <a:path w="21600" h="23757">
                <a:moveTo>
                  <a:pt x="0" y="0"/>
                </a:moveTo>
                <a:lnTo>
                  <a:pt x="21600" y="0"/>
                </a:lnTo>
                <a:lnTo>
                  <a:pt x="21600" y="23757"/>
                </a:lnTo>
                <a:lnTo>
                  <a:pt x="0" y="23757"/>
                </a:lnTo>
                <a:close/>
              </a:path>
              <a:path fill="lightenLess" w="21600" h="237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7">
                <a:moveTo>
                  <a:pt x="21600" y="0"/>
                </a:moveTo>
                <a:lnTo>
                  <a:pt x="21600" y="23757"/>
                </a:lnTo>
                <a:lnTo>
                  <a:pt x="20200" y="22357"/>
                </a:lnTo>
                <a:lnTo>
                  <a:pt x="20200" y="1400"/>
                </a:lnTo>
                <a:close/>
              </a:path>
              <a:path fill="darkenLess" w="21600" h="23757">
                <a:moveTo>
                  <a:pt x="21600" y="23757"/>
                </a:moveTo>
                <a:lnTo>
                  <a:pt x="0" y="23757"/>
                </a:lnTo>
                <a:lnTo>
                  <a:pt x="1400" y="22357"/>
                </a:lnTo>
                <a:lnTo>
                  <a:pt x="20200" y="22357"/>
                </a:lnTo>
                <a:close/>
              </a:path>
              <a:path fill="lighten" w="21600" h="23757">
                <a:moveTo>
                  <a:pt x="0" y="237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7"/>
                </a:lnTo>
                <a:close/>
              </a:path>
              <a:path fill="darken" w="21600" h="23757">
                <a:moveTo>
                  <a:pt x="3794" y="4872"/>
                </a:moveTo>
                <a:lnTo>
                  <a:pt x="17806" y="11879"/>
                </a:lnTo>
                <a:lnTo>
                  <a:pt x="3794" y="188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13080" y="8618400"/>
            <a:ext cx="8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00"/>
                </a:solidFill>
                <a:latin typeface="Arial"/>
              </a:rPr>
              <a:t>Art. 15.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39760" y="7572240"/>
            <a:ext cx="270000" cy="297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7000"/>
              <a:gd name="textAreaBottom" fmla="*/ 279720 h 297000"/>
            </a:gdLst>
            <a:ahLst/>
            <a:rect l="textAreaLeft" t="textAreaTop" r="textAreaRight" b="textAreaBottom"/>
            <a:pathLst>
              <a:path w="21600" h="23757">
                <a:moveTo>
                  <a:pt x="0" y="0"/>
                </a:moveTo>
                <a:lnTo>
                  <a:pt x="21600" y="0"/>
                </a:lnTo>
                <a:lnTo>
                  <a:pt x="21600" y="23757"/>
                </a:lnTo>
                <a:lnTo>
                  <a:pt x="0" y="23757"/>
                </a:lnTo>
                <a:close/>
              </a:path>
              <a:path fill="lightenLess" w="21600" h="237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7">
                <a:moveTo>
                  <a:pt x="21600" y="0"/>
                </a:moveTo>
                <a:lnTo>
                  <a:pt x="21600" y="23757"/>
                </a:lnTo>
                <a:lnTo>
                  <a:pt x="20200" y="22357"/>
                </a:lnTo>
                <a:lnTo>
                  <a:pt x="20200" y="1400"/>
                </a:lnTo>
                <a:close/>
              </a:path>
              <a:path fill="darkenLess" w="21600" h="23757">
                <a:moveTo>
                  <a:pt x="21600" y="23757"/>
                </a:moveTo>
                <a:lnTo>
                  <a:pt x="0" y="23757"/>
                </a:lnTo>
                <a:lnTo>
                  <a:pt x="1400" y="22357"/>
                </a:lnTo>
                <a:lnTo>
                  <a:pt x="20200" y="22357"/>
                </a:lnTo>
                <a:close/>
              </a:path>
              <a:path fill="lighten" w="21600" h="23757">
                <a:moveTo>
                  <a:pt x="0" y="237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7"/>
                </a:lnTo>
                <a:close/>
              </a:path>
              <a:path fill="darken" w="21600" h="23757">
                <a:moveTo>
                  <a:pt x="3794" y="4872"/>
                </a:moveTo>
                <a:lnTo>
                  <a:pt x="17806" y="11879"/>
                </a:lnTo>
                <a:lnTo>
                  <a:pt x="3794" y="1888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43160" y="7572240"/>
            <a:ext cx="8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00"/>
                </a:solidFill>
                <a:latin typeface="Arial"/>
              </a:rPr>
              <a:t>Art. 15.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10"/>
          </p:cNvPr>
          <p:cNvSpPr/>
          <p:nvPr/>
        </p:nvSpPr>
        <p:spPr>
          <a:xfrm>
            <a:off x="399960" y="5376960"/>
            <a:ext cx="270000" cy="29664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96640"/>
              <a:gd name="textAreaBottom" fmla="*/ 279360 h 296640"/>
            </a:gdLst>
            <a:ahLst/>
            <a:rect l="textAreaLeft" t="textAreaTop" r="textAreaRight" b="textAreaBottom"/>
            <a:pathLst>
              <a:path w="21600" h="23728">
                <a:moveTo>
                  <a:pt x="0" y="0"/>
                </a:moveTo>
                <a:lnTo>
                  <a:pt x="21600" y="0"/>
                </a:lnTo>
                <a:lnTo>
                  <a:pt x="21600" y="23728"/>
                </a:lnTo>
                <a:lnTo>
                  <a:pt x="0" y="23728"/>
                </a:lnTo>
                <a:close/>
              </a:path>
              <a:path fill="lightenLess" w="21600" h="237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28">
                <a:moveTo>
                  <a:pt x="21600" y="0"/>
                </a:moveTo>
                <a:lnTo>
                  <a:pt x="21600" y="23728"/>
                </a:lnTo>
                <a:lnTo>
                  <a:pt x="20200" y="22328"/>
                </a:lnTo>
                <a:lnTo>
                  <a:pt x="20200" y="1400"/>
                </a:lnTo>
                <a:close/>
              </a:path>
              <a:path fill="darkenLess" w="21600" h="23728">
                <a:moveTo>
                  <a:pt x="21600" y="23728"/>
                </a:moveTo>
                <a:lnTo>
                  <a:pt x="0" y="23728"/>
                </a:lnTo>
                <a:lnTo>
                  <a:pt x="1400" y="22328"/>
                </a:lnTo>
                <a:lnTo>
                  <a:pt x="20200" y="22328"/>
                </a:lnTo>
                <a:close/>
              </a:path>
              <a:path fill="lighten" w="21600" h="23728">
                <a:moveTo>
                  <a:pt x="0" y="237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28"/>
                </a:lnTo>
                <a:close/>
              </a:path>
              <a:path fill="darken" w="21600" h="23728">
                <a:moveTo>
                  <a:pt x="3794" y="4858"/>
                </a:moveTo>
                <a:lnTo>
                  <a:pt x="17806" y="11864"/>
                </a:lnTo>
                <a:lnTo>
                  <a:pt x="3794" y="1887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3360" y="5376960"/>
            <a:ext cx="88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00"/>
                </a:solidFill>
                <a:latin typeface="Arial"/>
              </a:rPr>
              <a:t>Art. 15.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157" idx="2"/>
            <a:endCxn id="158" idx="0"/>
          </p:cNvCxnSpPr>
          <p:nvPr/>
        </p:nvCxnSpPr>
        <p:spPr>
          <a:xfrm flipV="1" rot="10800000">
            <a:off x="1404360" y="5398560"/>
            <a:ext cx="1080" cy="28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07:14:00Z</dcterms:created>
  <dc:creator>easa-admin</dc:creator>
  <dc:description/>
  <dc:language>en-US</dc:language>
  <cp:lastModifiedBy>Ing. Rosario Concilio</cp:lastModifiedBy>
  <dcterms:modified xsi:type="dcterms:W3CDTF">2006-07-14T07:46:31Z</dcterms:modified>
  <cp:revision>33</cp:revision>
  <dc:subject/>
  <dc:title>Slide 1</dc:title>
</cp:coreProperties>
</file>