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B47-A7F7-4125-86F4-BEA8E7A0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664-7C75-4D2C-87A6-BD1F6C1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E8F-7E67-4AE7-8402-4A942A2E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32E-6DF7-460C-879B-CE5FB744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295-7EBC-4E94-9BFC-6FBF4E9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A84-EF04-49C0-BCD3-696173B4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9B9-750B-4C8E-9FA4-FBC9F398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8F3-A7C0-46FC-941C-590A338D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59F-B348-449C-9E7B-2C8EE556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72A-87A7-47CC-A2A1-E296A083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EC2-71D0-47CD-AD07-56C59D6E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9CB-E9EE-4B53-9452-BDEB863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E07-AAD1-4F3B-A201-B06476A8A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Presentazione%20della%20Qualit&#224;%20EASA.pps" TargetMode="External"/><Relationship Id="rId4" Type="http://schemas.openxmlformats.org/officeDocument/2006/relationships/hyperlink" Target="file:///Presentazione%20della%20Qualit&#224;%20EASA.pps" TargetMode="External"/><Relationship Id="rId5" Type="http://schemas.openxmlformats.org/officeDocument/2006/relationships/hyperlink" Target="file:///EASA.Standardisation%20Road-show.3_FBA.ppt" TargetMode="External"/><Relationship Id="rId6" Type="http://schemas.openxmlformats.org/officeDocument/2006/relationships/hyperlink" Target="file:///EASA.Standardisation%20Road-show.3_FBA.ppt" TargetMode="External"/><Relationship Id="rId7" Type="http://schemas.openxmlformats.org/officeDocument/2006/relationships/hyperlink" Target="file:///Presentazione%20della%20Qualit&#224;%20EASA.pps" TargetMode="External"/><Relationship Id="rId8" Type="http://schemas.openxmlformats.org/officeDocument/2006/relationships/hyperlink" Target="file:///Presentazione%20della%20Qualit&#224;%20EASA.pps" TargetMode="External"/><Relationship Id="rId9" Type="http://schemas.openxmlformats.org/officeDocument/2006/relationships/hyperlink" Target="file:///Presentazione%20della%20Qualit&#224;%20EASA.pps" TargetMode="External"/><Relationship Id="rId10" Type="http://schemas.openxmlformats.org/officeDocument/2006/relationships/hyperlink" Target="file:///Presentazione%20della%20Qualit&#224;%20EASA.pps" TargetMode="External"/><Relationship Id="rId11" Type="http://schemas.openxmlformats.org/officeDocument/2006/relationships/hyperlink" Target="file:///EASA.Standardisation%20Road-show.3_FBA.ppt" TargetMode="External"/><Relationship Id="rId12" Type="http://schemas.openxmlformats.org/officeDocument/2006/relationships/hyperlink" Target="file:///EASA.Standardisation%20Road-show.3_FBA.ppt" TargetMode="Externa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Presentazione%20della%20Qualit&#224;%20EASA.pps" TargetMode="External"/><Relationship Id="rId4" Type="http://schemas.openxmlformats.org/officeDocument/2006/relationships/hyperlink" Target="file:///Presentazione%20della%20Qualit&#224;%20EASA.pps" TargetMode="External"/><Relationship Id="rId5" Type="http://schemas.openxmlformats.org/officeDocument/2006/relationships/hyperlink" Target="file:///Presentazione%20della%20Qualit&#224;%20EASA.pps" TargetMode="External"/><Relationship Id="rId6" Type="http://schemas.openxmlformats.org/officeDocument/2006/relationships/hyperlink" Target="file:///EASA.Standardisation%20Road-show.3_FBA.ppt" TargetMode="External"/><Relationship Id="rId7" Type="http://schemas.openxmlformats.org/officeDocument/2006/relationships/hyperlink" Target="file:///Presentazione%20della%20Qualit&#224;%20EASA.pps" TargetMode="External"/><Relationship Id="rId8" Type="http://schemas.openxmlformats.org/officeDocument/2006/relationships/hyperlink" Target="file:///Presentazione%20della%20Qualit&#224;%20EASA.pps" TargetMode="External"/><Relationship Id="rId9" Type="http://schemas.openxmlformats.org/officeDocument/2006/relationships/hyperlink" Target="file:///EASA.Standardisation%20Road-show.2_RLE.ppt" TargetMode="External"/><Relationship Id="rId10" Type="http://schemas.openxmlformats.org/officeDocument/2006/relationships/hyperlink" Target="file:///Presentazione%20della%20Qualit&#224;%20EASA.pps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44280" y="252360"/>
            <a:ext cx="4800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ISATION INSPE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2280" y="701640"/>
            <a:ext cx="792000" cy="216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4360" y="1376280"/>
            <a:ext cx="792000" cy="36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d Notice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32280" y="4032360"/>
            <a:ext cx="792000" cy="42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1680" y="4632480"/>
            <a:ext cx="841680" cy="422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2322360"/>
            <a:ext cx="7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 T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8400" y="836640"/>
            <a:ext cx="871200" cy="360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2" idx="2"/>
            <a:endCxn id="43" idx="0"/>
          </p:cNvCxnSpPr>
          <p:nvPr/>
        </p:nvCxnSpPr>
        <p:spPr>
          <a:xfrm flipH="1">
            <a:off x="3420360" y="917640"/>
            <a:ext cx="8280" cy="45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70520" y="144468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10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70520" y="196200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6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73640" y="403236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 0 wee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4360" y="1916280"/>
            <a:ext cx="792000" cy="36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2280" y="3460680"/>
            <a:ext cx="792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3" idx="2"/>
            <a:endCxn id="52" idx="0"/>
          </p:cNvCxnSpPr>
          <p:nvPr/>
        </p:nvCxnSpPr>
        <p:spPr>
          <a:xfrm>
            <a:off x="3420360" y="1736640"/>
            <a:ext cx="36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1"/>
            <a:endCxn id="46" idx="0"/>
          </p:cNvCxnSpPr>
          <p:nvPr/>
        </p:nvCxnSpPr>
        <p:spPr>
          <a:xfrm flipV="1" rot="10800000">
            <a:off x="2357640" y="2096280"/>
            <a:ext cx="666720" cy="22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83360" y="289404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2nd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44" idx="0"/>
          </p:cNvCxnSpPr>
          <p:nvPr/>
        </p:nvCxnSpPr>
        <p:spPr>
          <a:xfrm rot="16200000">
            <a:off x="3360960" y="3964680"/>
            <a:ext cx="135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2920" y="3357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6160" y="124128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82160" y="592920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siting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50840" y="2167200"/>
            <a:ext cx="145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atory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13560" y="653760"/>
            <a:ext cx="5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ng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2311560"/>
            <a:ext cx="7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 Vis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2" idx="3"/>
            <a:endCxn id="63" idx="0"/>
          </p:cNvCxnSpPr>
          <p:nvPr/>
        </p:nvCxnSpPr>
        <p:spPr>
          <a:xfrm>
            <a:off x="3816360" y="2096640"/>
            <a:ext cx="656640" cy="21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273640" y="803736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0 wee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5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75000" y="5199120"/>
            <a:ext cx="1175040" cy="722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zar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9360" y="6462720"/>
            <a:ext cx="1263600" cy="722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 immedi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08160" y="4632480"/>
            <a:ext cx="841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8160" y="6029280"/>
            <a:ext cx="8416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38640" y="61023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4720" y="538164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0480" y="8712360"/>
            <a:ext cx="2412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78400" y="8742240"/>
            <a:ext cx="72072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ext p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H="1">
            <a:off x="3420720" y="8397720"/>
            <a:ext cx="2160" cy="3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081160" y="72723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7200" y="6686640"/>
            <a:ext cx="2696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2816280"/>
            <a:ext cx="792360" cy="45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visit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dertak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63" idx="2"/>
            <a:endCxn id="78" idx="0"/>
          </p:cNvCxnSpPr>
          <p:nvPr/>
        </p:nvCxnSpPr>
        <p:spPr>
          <a:xfrm rot="16200000">
            <a:off x="4400640" y="2743920"/>
            <a:ext cx="144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8" idx="2"/>
            <a:endCxn id="53" idx="3"/>
          </p:cNvCxnSpPr>
          <p:nvPr/>
        </p:nvCxnSpPr>
        <p:spPr>
          <a:xfrm rot="5400000">
            <a:off x="3942360" y="3148920"/>
            <a:ext cx="412200" cy="64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008160" y="5349960"/>
            <a:ext cx="841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44" idx="2"/>
            <a:endCxn id="69" idx="0"/>
          </p:cNvCxnSpPr>
          <p:nvPr/>
        </p:nvCxnSpPr>
        <p:spPr>
          <a:xfrm flipH="1" rot="16200000">
            <a:off x="3339000" y="4542120"/>
            <a:ext cx="180000" cy="1080"/>
          </a:xfrm>
          <a:prstGeom prst="bentConnector3">
            <a:avLst>
              <a:gd name="adj1" fmla="val 49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46" idx="2"/>
            <a:endCxn id="53" idx="1"/>
          </p:cNvCxnSpPr>
          <p:nvPr/>
        </p:nvCxnSpPr>
        <p:spPr>
          <a:xfrm flipH="1" rot="16200000">
            <a:off x="2197080" y="2843280"/>
            <a:ext cx="996480" cy="67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9" idx="3"/>
            <a:endCxn id="45" idx="1"/>
          </p:cNvCxnSpPr>
          <p:nvPr/>
        </p:nvCxnSpPr>
        <p:spPr>
          <a:xfrm>
            <a:off x="3849840" y="4843440"/>
            <a:ext cx="592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2"/>
            <a:endCxn id="67" idx="0"/>
          </p:cNvCxnSpPr>
          <p:nvPr/>
        </p:nvCxnSpPr>
        <p:spPr>
          <a:xfrm rot="16200000">
            <a:off x="4790520" y="5126760"/>
            <a:ext cx="144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7" idx="1"/>
            <a:endCxn id="81" idx="3"/>
          </p:cNvCxnSpPr>
          <p:nvPr/>
        </p:nvCxnSpPr>
        <p:spPr>
          <a:xfrm flipV="1" rot="10800000">
            <a:off x="3849480" y="5560200"/>
            <a:ext cx="425520" cy="1080"/>
          </a:xfrm>
          <a:prstGeom prst="bentConnector3">
            <a:avLst>
              <a:gd name="adj1" fmla="val 504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1" idx="2"/>
            <a:endCxn id="70" idx="0"/>
          </p:cNvCxnSpPr>
          <p:nvPr/>
        </p:nvCxnSpPr>
        <p:spPr>
          <a:xfrm rot="16200000">
            <a:off x="3300480" y="5900760"/>
            <a:ext cx="2574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70" idx="3"/>
          </p:cNvCxnSpPr>
          <p:nvPr/>
        </p:nvCxnSpPr>
        <p:spPr>
          <a:xfrm rot="5400000">
            <a:off x="4193640" y="5577480"/>
            <a:ext cx="325080" cy="1013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681360" y="6364440"/>
            <a:ext cx="617760" cy="3222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8160" y="7964640"/>
            <a:ext cx="84168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84240" y="7559640"/>
            <a:ext cx="9320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clo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70" idx="1"/>
            <a:endCxn id="68" idx="0"/>
          </p:cNvCxnSpPr>
          <p:nvPr/>
        </p:nvCxnSpPr>
        <p:spPr>
          <a:xfrm flipV="1" rot="10800000">
            <a:off x="2350800" y="6246000"/>
            <a:ext cx="657360" cy="21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68" idx="2"/>
            <a:endCxn id="91" idx="0"/>
          </p:cNvCxnSpPr>
          <p:nvPr/>
        </p:nvCxnSpPr>
        <p:spPr>
          <a:xfrm rot="5400000">
            <a:off x="2162880" y="7371720"/>
            <a:ext cx="375120" cy="1440"/>
          </a:xfrm>
          <a:prstGeom prst="bentConnector3">
            <a:avLst>
              <a:gd name="adj1" fmla="val 501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8" idx="3"/>
            <a:endCxn id="90" idx="0"/>
          </p:cNvCxnSpPr>
          <p:nvPr/>
        </p:nvCxnSpPr>
        <p:spPr>
          <a:xfrm>
            <a:off x="2982960" y="6823800"/>
            <a:ext cx="446400" cy="1141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0" idx="1"/>
          </p:cNvCxnSpPr>
          <p:nvPr/>
        </p:nvCxnSpPr>
        <p:spPr>
          <a:xfrm flipH="1" rot="16200000">
            <a:off x="2585160" y="7758000"/>
            <a:ext cx="188280" cy="65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1429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" y="8532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30492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4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9367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A-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7.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5972040" y="13986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5440" y="13986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8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4"/>
          </p:cNvPr>
          <p:cNvSpPr/>
          <p:nvPr/>
        </p:nvSpPr>
        <p:spPr>
          <a:xfrm>
            <a:off x="5972040" y="1893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5440" y="189396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8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5"/>
          </p:cNvPr>
          <p:cNvSpPr/>
          <p:nvPr/>
        </p:nvSpPr>
        <p:spPr>
          <a:xfrm>
            <a:off x="1101600" y="237492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"/>
          </p:cNvPr>
          <p:cNvSpPr/>
          <p:nvPr/>
        </p:nvSpPr>
        <p:spPr>
          <a:xfrm>
            <a:off x="1305000" y="2374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5773680" y="354168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354168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8"/>
          </p:cNvPr>
          <p:cNvSpPr/>
          <p:nvPr/>
        </p:nvSpPr>
        <p:spPr>
          <a:xfrm>
            <a:off x="5773680" y="47052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77080" y="47052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b-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9"/>
          </p:cNvPr>
          <p:cNvSpPr/>
          <p:nvPr/>
        </p:nvSpPr>
        <p:spPr>
          <a:xfrm>
            <a:off x="5773680" y="636444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77080" y="636444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d-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0"/>
          </p:cNvPr>
          <p:cNvSpPr/>
          <p:nvPr/>
        </p:nvSpPr>
        <p:spPr>
          <a:xfrm>
            <a:off x="5972040" y="917640"/>
            <a:ext cx="270000" cy="264960"/>
          </a:xfrm>
          <a:custGeom>
            <a:avLst/>
            <a:gdLst>
              <a:gd name="textAreaLeft" fmla="*/ 16920 w 270000"/>
              <a:gd name="textAreaRight" fmla="*/ 253080 w 27000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2010" h="21600">
                <a:moveTo>
                  <a:pt x="0" y="0"/>
                </a:moveTo>
                <a:lnTo>
                  <a:pt x="22010" y="0"/>
                </a:lnTo>
                <a:lnTo>
                  <a:pt x="22010" y="21600"/>
                </a:lnTo>
                <a:lnTo>
                  <a:pt x="0" y="21600"/>
                </a:lnTo>
                <a:close/>
              </a:path>
              <a:path fill="lightenLess" w="22010" h="21600">
                <a:moveTo>
                  <a:pt x="0" y="0"/>
                </a:moveTo>
                <a:lnTo>
                  <a:pt x="22010" y="0"/>
                </a:lnTo>
                <a:lnTo>
                  <a:pt x="20610" y="1400"/>
                </a:lnTo>
                <a:lnTo>
                  <a:pt x="1400" y="1400"/>
                </a:lnTo>
                <a:close/>
              </a:path>
              <a:path fill="darken" w="22010" h="21600">
                <a:moveTo>
                  <a:pt x="22010" y="0"/>
                </a:moveTo>
                <a:lnTo>
                  <a:pt x="22010" y="21600"/>
                </a:lnTo>
                <a:lnTo>
                  <a:pt x="20610" y="20200"/>
                </a:lnTo>
                <a:lnTo>
                  <a:pt x="20610" y="1400"/>
                </a:lnTo>
                <a:close/>
              </a:path>
              <a:path fill="darkenLess" w="22010" h="21600">
                <a:moveTo>
                  <a:pt x="22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10" y="20200"/>
                </a:lnTo>
                <a:close/>
              </a:path>
              <a:path fill="lighten" w="22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10" h="21600">
                <a:moveTo>
                  <a:pt x="3999" y="3794"/>
                </a:moveTo>
                <a:lnTo>
                  <a:pt x="18012" y="10800"/>
                </a:lnTo>
                <a:lnTo>
                  <a:pt x="39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2040" y="9223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1"/>
          </p:cNvPr>
          <p:cNvSpPr/>
          <p:nvPr/>
        </p:nvSpPr>
        <p:spPr>
          <a:xfrm>
            <a:off x="1101600" y="285120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2"/>
          </p:cNvPr>
          <p:cNvSpPr/>
          <p:nvPr/>
        </p:nvSpPr>
        <p:spPr>
          <a:xfrm>
            <a:off x="1305000" y="28512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05280" y="6912000"/>
            <a:ext cx="1266840" cy="8128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a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isfac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in d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56240" y="7095960"/>
            <a:ext cx="944640" cy="4431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Clo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ment (C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8040" y="7989840"/>
            <a:ext cx="841320" cy="216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51160" y="497664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440" y="7240680"/>
            <a:ext cx="97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ure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" y="6327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6480" y="243000"/>
            <a:ext cx="72072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prev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1760" y="4797360"/>
            <a:ext cx="1350720" cy="722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re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000" y="57722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72120" y="713592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3560" y="4991040"/>
            <a:ext cx="2696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520" y="8442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35440" y="8532720"/>
            <a:ext cx="944280" cy="443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 fur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ons initi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Com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62440" y="4056120"/>
            <a:ext cx="911160" cy="495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e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38640" y="257184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12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55440" y="4632120"/>
            <a:ext cx="109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llow-up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59480" y="5045040"/>
            <a:ext cx="96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28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8640" y="3941640"/>
            <a:ext cx="1351080" cy="722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t and s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due ti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05080" y="41241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98680" y="243000"/>
            <a:ext cx="24156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29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52360" y="4710240"/>
            <a:ext cx="270000" cy="1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7400" y="240660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9440" y="750960"/>
            <a:ext cx="86040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ify Find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2360" y="1150920"/>
            <a:ext cx="487440" cy="2714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70160" y="1359000"/>
            <a:ext cx="844560" cy="48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d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comm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8120" y="1739880"/>
            <a:ext cx="86040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35560" y="2160720"/>
            <a:ext cx="479520" cy="285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6" idx="4"/>
            <a:endCxn id="140" idx="0"/>
          </p:cNvCxnSpPr>
          <p:nvPr/>
        </p:nvCxnSpPr>
        <p:spPr>
          <a:xfrm flipV="1" rot="10800000">
            <a:off x="3418920" y="482400"/>
            <a:ext cx="1080" cy="26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0" idx="2"/>
            <a:endCxn id="142" idx="3"/>
          </p:cNvCxnSpPr>
          <p:nvPr/>
        </p:nvCxnSpPr>
        <p:spPr>
          <a:xfrm rot="5400000">
            <a:off x="3081600" y="1263960"/>
            <a:ext cx="3704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43" idx="1"/>
          </p:cNvCxnSpPr>
          <p:nvPr/>
        </p:nvCxnSpPr>
        <p:spPr>
          <a:xfrm flipH="1" rot="16200000">
            <a:off x="3116880" y="1419480"/>
            <a:ext cx="137160" cy="986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2"/>
            <a:endCxn id="139" idx="3"/>
          </p:cNvCxnSpPr>
          <p:nvPr/>
        </p:nvCxnSpPr>
        <p:spPr>
          <a:xfrm rot="5400000">
            <a:off x="3774960" y="2324520"/>
            <a:ext cx="4374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31400" y="1614960"/>
            <a:ext cx="109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orting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360" y="304164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55960" y="3197160"/>
            <a:ext cx="922320" cy="542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s (RA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39" idx="2"/>
            <a:endCxn id="151" idx="0"/>
          </p:cNvCxnSpPr>
          <p:nvPr/>
        </p:nvCxnSpPr>
        <p:spPr>
          <a:xfrm rot="5400000">
            <a:off x="3272760" y="3050640"/>
            <a:ext cx="291240" cy="252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789360" y="3670200"/>
            <a:ext cx="584280" cy="3160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0480" y="3511440"/>
            <a:ext cx="16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22nd week (Class 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94360" y="3267000"/>
            <a:ext cx="17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14th week (Class c &amp; 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5920" y="5697360"/>
            <a:ext cx="911160" cy="49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5800" y="4917960"/>
            <a:ext cx="89676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lemen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 (S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42840" y="568152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33400" y="5318280"/>
            <a:ext cx="346320" cy="2016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1" idx="1"/>
            <a:endCxn id="134" idx="0"/>
          </p:cNvCxnSpPr>
          <p:nvPr/>
        </p:nvCxnSpPr>
        <p:spPr>
          <a:xfrm flipV="1" rot="10800000">
            <a:off x="1404360" y="3468240"/>
            <a:ext cx="155160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4" idx="3"/>
            <a:endCxn id="130" idx="1"/>
          </p:cNvCxnSpPr>
          <p:nvPr/>
        </p:nvCxnSpPr>
        <p:spPr>
          <a:xfrm>
            <a:off x="2079720" y="4303440"/>
            <a:ext cx="883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4" idx="2"/>
            <a:endCxn id="157" idx="0"/>
          </p:cNvCxnSpPr>
          <p:nvPr/>
        </p:nvCxnSpPr>
        <p:spPr>
          <a:xfrm flipV="1" rot="10800000">
            <a:off x="1404360" y="4663800"/>
            <a:ext cx="1080" cy="254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4519440" y="4888080"/>
            <a:ext cx="922680" cy="542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to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A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5318280"/>
            <a:ext cx="566640" cy="2570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30" idx="2"/>
            <a:endCxn id="124" idx="0"/>
          </p:cNvCxnSpPr>
          <p:nvPr/>
        </p:nvCxnSpPr>
        <p:spPr>
          <a:xfrm flipV="1" rot="10800000">
            <a:off x="3417120" y="4551120"/>
            <a:ext cx="1080" cy="24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24" idx="1"/>
            <a:endCxn id="157" idx="3"/>
          </p:cNvCxnSpPr>
          <p:nvPr/>
        </p:nvCxnSpPr>
        <p:spPr>
          <a:xfrm rot="10800000">
            <a:off x="1851840" y="5158800"/>
            <a:ext cx="889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24" idx="3"/>
            <a:endCxn id="163" idx="1"/>
          </p:cNvCxnSpPr>
          <p:nvPr/>
        </p:nvCxnSpPr>
        <p:spPr>
          <a:xfrm>
            <a:off x="4092480" y="5159160"/>
            <a:ext cx="427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3" idx="2"/>
            <a:endCxn id="156" idx="0"/>
          </p:cNvCxnSpPr>
          <p:nvPr/>
        </p:nvCxnSpPr>
        <p:spPr>
          <a:xfrm flipV="1" rot="10800000">
            <a:off x="4980960" y="5430600"/>
            <a:ext cx="10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951280" y="5673600"/>
            <a:ext cx="922320" cy="542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/ evalu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rds from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56" idx="1"/>
            <a:endCxn id="169" idx="3"/>
          </p:cNvCxnSpPr>
          <p:nvPr/>
        </p:nvCxnSpPr>
        <p:spPr>
          <a:xfrm rot="10800000">
            <a:off x="3872880" y="5944320"/>
            <a:ext cx="653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567400" y="784692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8640" y="818208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98680" y="714060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7120" y="7081920"/>
            <a:ext cx="89676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lemen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 (S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4520" y="783576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4" idx="2"/>
            <a:endCxn id="175" idx="0"/>
          </p:cNvCxnSpPr>
          <p:nvPr/>
        </p:nvCxnSpPr>
        <p:spPr>
          <a:xfrm flipV="1" rot="10800000">
            <a:off x="2245680" y="7562880"/>
            <a:ext cx="1080" cy="27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575080" y="7481880"/>
            <a:ext cx="345960" cy="2016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17" idx="1"/>
            <a:endCxn id="174" idx="3"/>
          </p:cNvCxnSpPr>
          <p:nvPr/>
        </p:nvCxnSpPr>
        <p:spPr>
          <a:xfrm flipV="1" rot="10800000">
            <a:off x="2693160" y="7317360"/>
            <a:ext cx="1212120" cy="540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18" idx="2"/>
            <a:endCxn id="171" idx="0"/>
          </p:cNvCxnSpPr>
          <p:nvPr/>
        </p:nvCxnSpPr>
        <p:spPr>
          <a:xfrm flipV="1" rot="10800000">
            <a:off x="6028560" y="7538760"/>
            <a:ext cx="108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921040" y="6462720"/>
            <a:ext cx="984240" cy="542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-hoc insp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necess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2"/>
            <a:endCxn id="180" idx="0"/>
          </p:cNvCxnSpPr>
          <p:nvPr/>
        </p:nvCxnSpPr>
        <p:spPr>
          <a:xfrm flipV="1" rot="10800000">
            <a:off x="3412440" y="6216120"/>
            <a:ext cx="108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58" idx="2"/>
            <a:endCxn id="129" idx="1"/>
          </p:cNvCxnSpPr>
          <p:nvPr/>
        </p:nvCxnSpPr>
        <p:spPr>
          <a:xfrm flipH="1" rot="16200000">
            <a:off x="882360" y="6702840"/>
            <a:ext cx="2574360" cy="153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3"/>
            <a:endCxn id="129" idx="0"/>
          </p:cNvCxnSpPr>
          <p:nvPr/>
        </p:nvCxnSpPr>
        <p:spPr>
          <a:xfrm>
            <a:off x="2706480" y="8086320"/>
            <a:ext cx="702360" cy="44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3"/>
            <a:endCxn id="117" idx="0"/>
          </p:cNvCxnSpPr>
          <p:nvPr/>
        </p:nvCxnSpPr>
        <p:spPr>
          <a:xfrm>
            <a:off x="3904920" y="6734160"/>
            <a:ext cx="633960" cy="17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17" idx="3"/>
            <a:endCxn id="118" idx="1"/>
          </p:cNvCxnSpPr>
          <p:nvPr/>
        </p:nvCxnSpPr>
        <p:spPr>
          <a:xfrm>
            <a:off x="5171760" y="7318080"/>
            <a:ext cx="384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1" idx="1"/>
            <a:endCxn id="119" idx="3"/>
          </p:cNvCxnSpPr>
          <p:nvPr/>
        </p:nvCxnSpPr>
        <p:spPr>
          <a:xfrm rot="10800000">
            <a:off x="4958640" y="8097120"/>
            <a:ext cx="608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369120" y="7456320"/>
            <a:ext cx="345960" cy="2019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760" y="8618400"/>
            <a:ext cx="12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ission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30492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4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367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A-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7.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/>
          </p:cNvPr>
          <p:cNvSpPr/>
          <p:nvPr/>
        </p:nvSpPr>
        <p:spPr>
          <a:xfrm>
            <a:off x="5543640" y="182736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13280" y="18493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32670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51160" y="3267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4"/>
          </p:cNvPr>
          <p:cNvSpPr/>
          <p:nvPr/>
        </p:nvSpPr>
        <p:spPr>
          <a:xfrm>
            <a:off x="5656320" y="470232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59360" y="47023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1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5"/>
          </p:cNvPr>
          <p:cNvSpPr/>
          <p:nvPr/>
        </p:nvSpPr>
        <p:spPr>
          <a:xfrm>
            <a:off x="5508720" y="580716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1760" y="580716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1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3960" y="753912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6"/>
          </p:cNvPr>
          <p:cNvSpPr/>
          <p:nvPr/>
        </p:nvSpPr>
        <p:spPr>
          <a:xfrm>
            <a:off x="5067360" y="753912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7"/>
          </p:cNvPr>
          <p:cNvSpPr/>
          <p:nvPr/>
        </p:nvSpPr>
        <p:spPr>
          <a:xfrm>
            <a:off x="5556240" y="750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59280" y="75096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8"/>
          </p:cNvPr>
          <p:cNvSpPr/>
          <p:nvPr/>
        </p:nvSpPr>
        <p:spPr>
          <a:xfrm>
            <a:off x="1905120" y="657072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08160" y="65707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9"/>
          </p:cNvPr>
          <p:cNvSpPr/>
          <p:nvPr/>
        </p:nvSpPr>
        <p:spPr>
          <a:xfrm>
            <a:off x="6029280" y="8532720"/>
            <a:ext cx="563760" cy="443160"/>
          </a:xfrm>
          <a:custGeom>
            <a:avLst/>
            <a:gdLst>
              <a:gd name="textAreaLeft" fmla="*/ 28440 w 563760"/>
              <a:gd name="textAreaRight" fmla="*/ 535320 w 563760"/>
              <a:gd name="textAreaTop" fmla="*/ 28440 h 443160"/>
              <a:gd name="textAreaBottom" fmla="*/ 414720 h 443160"/>
            </a:gdLst>
            <a:ahLst/>
            <a:rect l="textAreaLeft" t="textAreaTop" r="textAreaRight" b="textAreaBottom"/>
            <a:pathLst>
              <a:path w="27473" h="21600">
                <a:moveTo>
                  <a:pt x="0" y="0"/>
                </a:moveTo>
                <a:lnTo>
                  <a:pt x="27473" y="0"/>
                </a:lnTo>
                <a:lnTo>
                  <a:pt x="27473" y="21600"/>
                </a:lnTo>
                <a:lnTo>
                  <a:pt x="0" y="21600"/>
                </a:lnTo>
                <a:close/>
              </a:path>
              <a:path fill="lightenLess" w="27473" h="21600">
                <a:moveTo>
                  <a:pt x="0" y="0"/>
                </a:moveTo>
                <a:lnTo>
                  <a:pt x="27473" y="0"/>
                </a:lnTo>
                <a:lnTo>
                  <a:pt x="26073" y="1400"/>
                </a:lnTo>
                <a:lnTo>
                  <a:pt x="1400" y="1400"/>
                </a:lnTo>
                <a:close/>
              </a:path>
              <a:path fill="darken" w="27473" h="21600">
                <a:moveTo>
                  <a:pt x="27473" y="0"/>
                </a:moveTo>
                <a:lnTo>
                  <a:pt x="27473" y="21600"/>
                </a:lnTo>
                <a:lnTo>
                  <a:pt x="26073" y="20200"/>
                </a:lnTo>
                <a:lnTo>
                  <a:pt x="26073" y="1400"/>
                </a:lnTo>
                <a:close/>
              </a:path>
              <a:path fill="darkenLess" w="27473" h="21600">
                <a:moveTo>
                  <a:pt x="27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3" y="20200"/>
                </a:lnTo>
                <a:close/>
              </a:path>
              <a:path fill="lighten" w="27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3" h="21600">
                <a:moveTo>
                  <a:pt x="6730" y="7493"/>
                </a:moveTo>
                <a:lnTo>
                  <a:pt x="10238" y="7493"/>
                </a:lnTo>
                <a:lnTo>
                  <a:pt x="10238" y="12828"/>
                </a:lnTo>
                <a:cubicBezTo>
                  <a:pt x="10238" y="13751"/>
                  <a:pt x="11039" y="14482"/>
                  <a:pt x="12074" y="14482"/>
                </a:cubicBezTo>
                <a:lnTo>
                  <a:pt x="13737" y="14482"/>
                </a:lnTo>
                <a:cubicBezTo>
                  <a:pt x="14772" y="14482"/>
                  <a:pt x="15573" y="13751"/>
                  <a:pt x="15573" y="12828"/>
                </a:cubicBezTo>
                <a:lnTo>
                  <a:pt x="15573" y="7493"/>
                </a:lnTo>
                <a:lnTo>
                  <a:pt x="13737" y="7493"/>
                </a:lnTo>
                <a:lnTo>
                  <a:pt x="17244" y="3985"/>
                </a:lnTo>
                <a:lnTo>
                  <a:pt x="20917" y="7493"/>
                </a:lnTo>
                <a:lnTo>
                  <a:pt x="19081" y="7493"/>
                </a:lnTo>
                <a:lnTo>
                  <a:pt x="19081" y="12828"/>
                </a:lnTo>
                <a:cubicBezTo>
                  <a:pt x="19081" y="15596"/>
                  <a:pt x="16504" y="18155"/>
                  <a:pt x="13737" y="18155"/>
                </a:cubicBezTo>
                <a:lnTo>
                  <a:pt x="12074" y="18155"/>
                </a:lnTo>
                <a:cubicBezTo>
                  <a:pt x="9307" y="18155"/>
                  <a:pt x="6730" y="15596"/>
                  <a:pt x="67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10040" y="86184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3080" y="86184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39760" y="757224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43160" y="757224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0"/>
          </p:cNvPr>
          <p:cNvSpPr/>
          <p:nvPr/>
        </p:nvSpPr>
        <p:spPr>
          <a:xfrm>
            <a:off x="399960" y="5376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3360" y="5376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157" idx="2"/>
            <a:endCxn id="158" idx="0"/>
          </p:cNvCxnSpPr>
          <p:nvPr/>
        </p:nvCxnSpPr>
        <p:spPr>
          <a:xfrm flipV="1" rot="10800000">
            <a:off x="1404360" y="5398560"/>
            <a:ext cx="1080" cy="28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7:14:00Z</dcterms:created>
  <dc:creator>easa-admin</dc:creator>
  <dc:description/>
  <dc:language>en-US</dc:language>
  <cp:lastModifiedBy>Ing. Rosario Concilio</cp:lastModifiedBy>
  <dcterms:modified xsi:type="dcterms:W3CDTF">2006-07-14T07:46:31Z</dcterms:modified>
  <cp:revision>33</cp:revision>
  <dc:subject/>
  <dc:title>Slide 1</dc:title>
</cp:coreProperties>
</file>